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3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4.pct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Anatomy of an internal assessment resource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00000"/>
                </a:solidFill>
                <a:latin typeface="Arial"/>
              </a:rPr>
              <a:t>   … </a:t>
            </a:r>
            <a:r>
              <a:rPr b="0" lang="en-AU" sz="3200" spc="-1" strike="noStrike">
                <a:solidFill>
                  <a:srgbClr val="800000"/>
                </a:solidFill>
                <a:latin typeface="Arial"/>
              </a:rPr>
              <a:t>that students and teachers can understand, and teachers assess.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143000" y="6019920"/>
            <a:ext cx="70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arning Media Limited for Ministry of Education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tudent instruction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76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5.  Add notes to the teacher (annot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603520"/>
            <a:ext cx="769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source is not engraved in stone; it can and should be modified by the classroom teacher to better engage their students and for use in other contexts.  Interpolated notes explicitly give teachers permission to make alter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2280" y="3894120"/>
          <a:ext cx="8610840" cy="166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94120"/>
                    <a:ext cx="861084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80"/>
                </a:solidFill>
                <a:latin typeface="Arial"/>
              </a:rPr>
              <a:t>Assessment schedule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523880"/>
            <a:ext cx="8016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chedule should be written in such a way that the teacher knows what achieved, merit, and excellence look like.  Don’t split the schedule into tasks; finally, the teacher has to make a global judgment – the schedule needs to facilitate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6320" y="2971800"/>
          <a:ext cx="8534160" cy="280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971800"/>
                    <a:ext cx="8534160" cy="28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0" y="1641600"/>
          <a:ext cx="8915400" cy="369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41600"/>
                    <a:ext cx="891540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Teacher instruction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523880"/>
            <a:ext cx="762012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Write this part 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is section contains two standard paragraphs, (i) notes on context/setting, (ii) notes on conditions, (iii) notes on resources, (iv) additional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Teacher Instructions should be no more than a brief overview of what the task involves, any necessary clarification or disambiguation, advice on conditions (including group work, checkpoints, timeframe), suggested resources, and teaching-related guid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 not repeat definitions, points, etc., that are already in the student instructions but, by all means, draw the teacher’s attention to the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1295280"/>
          <a:ext cx="8458200" cy="16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16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Student instruction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ame the “product”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6280" y="2346480"/>
            <a:ext cx="740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What is it that students actually have to submit for assess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2240" y="3247920"/>
            <a:ext cx="717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280" y="2819520"/>
          <a:ext cx="8153640" cy="113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819520"/>
                    <a:ext cx="815364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838080" y="4267080"/>
            <a:ext cx="7407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s a general principle, there should be a single, assessable “product” – not multiple products that have to be individually assessed and then a global grade somehow determined.  (Non-assessed, prerequisite tasks such as research or planning OK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-152280" y="1330200"/>
          <a:ext cx="8915400" cy="180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1330200"/>
                    <a:ext cx="891540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-152280" y="3387600"/>
          <a:ext cx="8915400" cy="876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52280" y="3387600"/>
                    <a:ext cx="891540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-152280" y="4606920"/>
          <a:ext cx="8915400" cy="955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152280" y="4606920"/>
                    <a:ext cx="891540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tudent instruction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6800" y="1447920"/>
            <a:ext cx="71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2.  Explain how the work will be jud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17560" y="2011320"/>
            <a:ext cx="53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ere should the students put their energ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2476440"/>
          <a:ext cx="8534520" cy="351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76440"/>
                    <a:ext cx="853452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-152280" y="914400"/>
          <a:ext cx="8686800" cy="102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914400"/>
                    <a:ext cx="868680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tudent instruction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4640" y="137160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3.  Specify any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2240" y="1952640"/>
            <a:ext cx="75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ment of others, necessary but non-assessable tasks, alternative product formats, time period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280" y="2666880"/>
          <a:ext cx="8229600" cy="348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666880"/>
                    <a:ext cx="822960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tudent instruction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8480" y="1219320"/>
            <a:ext cx="63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4.  Describe and structure the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1828800"/>
            <a:ext cx="701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evel of scaffolding is expected.  This may include step-by-step description of a process, a list of things to be kept in mind when creating the product, short exemplar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2819520"/>
          <a:ext cx="7620120" cy="344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76201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38080" y="762120"/>
            <a:ext cx="729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rganise a concert”, “write a report”, “write a brief”, “produce an executive summary”, “present a portfolio”, “provide a critique”, “create a script”, “develop a prototype”, “compare the two works”, “design a shed”, etc., are complex tasks that need to be given some definition.  And students need to be given some pointers about what is expected / how to go about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2280" y="2666880"/>
          <a:ext cx="807732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666880"/>
                    <a:ext cx="807732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105084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general rule, do not provide formatted templates with spaces for students to write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22:48:40Z</dcterms:created>
  <dc:creator>Ian Reid</dc:creator>
  <dc:description/>
  <cp:keywords/>
  <dc:language>en-US</dc:language>
  <cp:lastModifiedBy>Ian Reid</cp:lastModifiedBy>
  <dcterms:modified xsi:type="dcterms:W3CDTF">2010-07-14T01:15:39Z</dcterms:modified>
  <cp:revision>19</cp:revision>
  <dc:subject/>
  <dc:title>PowerPoint Presentation</dc:title>
</cp:coreProperties>
</file>