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ct" ContentType="image/x-pict"/>
  <Override PartName="/ppt/media/image7.jpeg" ContentType="image/jpeg"/>
  <Override PartName="/ppt/media/image24.jpeg" ContentType="image/jpeg"/>
  <Override PartName="/ppt/media/image22.jpeg" ContentType="image/jpeg"/>
  <Override PartName="/ppt/media/image6.pct" ContentType="image/x-pict"/>
  <Override PartName="/ppt/media/image21.jpeg" ContentType="image/jpeg"/>
  <Override PartName="/ppt/media/image26.pct" ContentType="image/x-pict"/>
  <Override PartName="/ppt/media/image20.jpeg" ContentType="image/jpeg"/>
  <Override PartName="/ppt/media/image18.jpeg" ContentType="image/jpeg"/>
  <Override PartName="/ppt/media/image17.pct" ContentType="image/x-pict"/>
  <Override PartName="/ppt/media/image16.jpeg" ContentType="image/jpeg"/>
  <Override PartName="/ppt/media/image29.pct" ContentType="image/x-pict"/>
  <Override PartName="/ppt/media/image30.pct" ContentType="image/x-pict"/>
  <Override PartName="/ppt/media/image23.jpeg" ContentType="image/jpeg"/>
  <Override PartName="/ppt/media/image28.pct" ContentType="image/x-pict"/>
  <Override PartName="/ppt/media/image32.pct" ContentType="image/x-pict"/>
  <Override PartName="/ppt/media/image35.png" ContentType="image/png"/>
  <Override PartName="/ppt/media/image11.jpeg" ContentType="image/jpeg"/>
  <Override PartName="/ppt/media/image13.png" ContentType="image/png"/>
  <Override PartName="/ppt/media/image37.png" ContentType="image/png"/>
  <Override PartName="/ppt/media/image10.png" ContentType="image/png"/>
  <Override PartName="/ppt/media/image36.png" ContentType="image/png"/>
  <Override PartName="/ppt/media/image3.pct" ContentType="image/x-pict"/>
  <Override PartName="/ppt/media/image33.pct" ContentType="image/x-pict"/>
  <Override PartName="/ppt/media/image40.jpeg" ContentType="image/jpeg"/>
  <Override PartName="/ppt/media/image41.png" ContentType="image/png"/>
  <Override PartName="/ppt/media/image39.pct" ContentType="image/x-pict"/>
  <Override PartName="/ppt/media/image9.pct" ContentType="image/x-pict"/>
  <Override PartName="/ppt/media/image42.jpeg" ContentType="image/jpeg"/>
  <Override PartName="/ppt/media/image5.pct" ContentType="image/x-pict"/>
  <Override PartName="/ppt/media/image38.png" ContentType="image/png"/>
  <Override PartName="/ppt/media/image8.jpeg" ContentType="image/jpeg"/>
  <Override PartName="/ppt/media/image19.pct" ContentType="image/x-pict"/>
  <Override PartName="/ppt/media/image15.jpeg" ContentType="image/jpeg"/>
  <Override PartName="/ppt/media/image12.jpeg" ContentType="image/jpeg"/>
  <Override PartName="/ppt/media/image34.png" ContentType="image/png"/>
  <Override PartName="/ppt/media/image31.pct" ContentType="image/x-pict"/>
  <Override PartName="/ppt/media/image4.png" ContentType="image/png"/>
  <Override PartName="/ppt/media/image27.png" ContentType="image/png"/>
  <Override PartName="/ppt/media/image2.png" ContentType="image/pn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499-7FE3-4870-A262-09F6F934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C18-2393-4300-9B0F-FA65342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DC9-47D8-4974-B8C1-81345D1F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452-DD80-423D-A8DD-217F9FAE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B53-FE01-4C84-98CD-43F93E4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06E-06E0-4446-AB86-F908E9A8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870-CC2D-454E-8055-AFF85514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BE1-0114-4CEB-84CB-791D0098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BC8-9C0F-4C03-896B-7EF630C3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31A-83F1-4B3F-939C-83E6008B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A2F-09BA-4305-A8A0-AEEE35D8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7E8-74C2-4D9C-BF64-C53A768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0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a0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a0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a0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a0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ba0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ba0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ba040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ba040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ba040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ba040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ba040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3167-E7B6-432F-BEF8-1E6605B90724}" type="slidenum">
              <a:rPr b="0" lang="en-AU" sz="1400" spc="-1" strike="noStrike">
                <a:solidFill>
                  <a:srgbClr val="ba040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9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5.pct"/><Relationship Id="rId3" Type="http://schemas.openxmlformats.org/officeDocument/2006/relationships/image" Target="../media/image26.pct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ct"/><Relationship Id="rId5" Type="http://schemas.openxmlformats.org/officeDocument/2006/relationships/image" Target="../media/image29.pct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1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32.pct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33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39.pct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hyperlink" Target="http://www.apple.com/dotmac/" TargetMode="External"/><Relationship Id="rId8" Type="http://schemas.openxmlformats.org/officeDocument/2006/relationships/hyperlink" Target="http://www.live365.com/index.live" TargetMode="External"/><Relationship Id="rId9" Type="http://schemas.openxmlformats.org/officeDocument/2006/relationships/hyperlink" Target="http://www.rogueamoeba.com/nicecast/" TargetMode="External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74760" y="228600"/>
            <a:ext cx="4835520" cy="6362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3432240"/>
            <a:ext cx="8382240" cy="205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lack"/>
              </a:rPr>
              <a:t>get the messag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 rot="1067400">
            <a:off x="2768400" y="-533520"/>
            <a:ext cx="6375240" cy="789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2895480"/>
            <a:ext cx="289548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Visio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ationa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la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itc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urcha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uil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Launc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u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19626600">
            <a:off x="3578040" y="2209680"/>
            <a:ext cx="2495520" cy="2895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24280" y="3048120"/>
            <a:ext cx="264492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809880" y="4248000"/>
            <a:ext cx="3888000" cy="24228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238800" y="2819520"/>
            <a:ext cx="2652840" cy="373356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Process and path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17958000">
            <a:off x="-151920" y="0"/>
            <a:ext cx="6375240" cy="789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flipH="1">
            <a:off x="4347720" y="2514600"/>
            <a:ext cx="4567320" cy="38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Making the pitch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95480"/>
            <a:ext cx="85341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hat’s in it for me?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Give ’em a visio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PR: sell the school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Commun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Integrated learn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Open it up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Cost/return analysi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Schmoozing the boar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291603" t="-1233" r="2672" b="818182"/>
          <a:stretch/>
        </p:blipFill>
        <p:spPr>
          <a:xfrm rot="7800">
            <a:off x="-1440" y="787320"/>
            <a:ext cx="5843520" cy="6070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9920" y="2732040"/>
            <a:ext cx="4259160" cy="3808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Pick your partner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895480"/>
            <a:ext cx="861048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eing blond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Use and abu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ross-curricular cooperation: real clien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Construction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Art / Graphic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ICT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Business/Enterpri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ponso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8542200">
            <a:off x="-380880" y="-520200"/>
            <a:ext cx="6375240" cy="7899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Watch this space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630600" y="3124080"/>
            <a:ext cx="5208480" cy="34704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30600" y="3108240"/>
            <a:ext cx="5284800" cy="352116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304920" y="2895480"/>
            <a:ext cx="8534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reative cupboard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8542200">
            <a:off x="-380880" y="-520200"/>
            <a:ext cx="6375240" cy="789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1451" t="4103" r="2899" b="1582"/>
          <a:stretch/>
        </p:blipFill>
        <p:spPr>
          <a:xfrm>
            <a:off x="3048120" y="2630520"/>
            <a:ext cx="5562360" cy="3876480"/>
          </a:xfrm>
          <a:prstGeom prst="rect">
            <a:avLst/>
          </a:prstGeom>
          <a:ln w="9360">
            <a:solidFill>
              <a:srgbClr val="ba040c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Watch this space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2895480"/>
            <a:ext cx="8534160" cy="10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Draft a pla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8542200">
            <a:off x="-380880" y="-533520"/>
            <a:ext cx="6375240" cy="7899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Watch this space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895480"/>
            <a:ext cx="8534160" cy="32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und separatio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ke ove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nsulat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Dead ai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ork surfac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ower, cabling,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  web, phon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733920" y="3152880"/>
            <a:ext cx="5105160" cy="34002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0" t="4802" r="0" b="0"/>
          <a:stretch/>
        </p:blipFill>
        <p:spPr>
          <a:xfrm>
            <a:off x="3733920" y="3151080"/>
            <a:ext cx="5105160" cy="34020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1266794" t="-1233" r="954" b="1430663"/>
          <a:stretch/>
        </p:blipFill>
        <p:spPr>
          <a:xfrm rot="16188600">
            <a:off x="4747320" y="2466000"/>
            <a:ext cx="4084560" cy="469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672901" t="-616" r="1718" b="612481"/>
          <a:stretch/>
        </p:blipFill>
        <p:spPr>
          <a:xfrm rot="5388600">
            <a:off x="684360" y="-690840"/>
            <a:ext cx="5156280" cy="6529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00400" y="2778120"/>
            <a:ext cx="5665680" cy="377496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228600" y="2895480"/>
            <a:ext cx="861048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Don’t break the bank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Get good gea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sk pro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uy wholesa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ny option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eg, borrow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void 2nd han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9084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048280" y="2057400"/>
            <a:ext cx="3790800" cy="4648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2873520"/>
            <a:ext cx="8610480" cy="36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ot stage mic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o proximity bass boost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ny options –  Sennheiser, Be</a:t>
            </a:r>
            <a:r>
              <a:rPr b="0" lang="en-AU" sz="2800" spc="-1" strike="noStrike">
                <a:solidFill>
                  <a:srgbClr val="000000"/>
                </a:solidFill>
                <a:latin typeface="Helvetica 75 Bold"/>
              </a:rPr>
              <a:t>yer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Helvetica 75 Bold"/>
              </a:rPr>
              <a:t>Dynami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est for $: AKG Perception 200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ød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ccessories: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  aquapoise stands 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  windsocks vs pop filte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Gearing up – Mic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9084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 rot="20013000">
            <a:off x="5333760" y="2612880"/>
            <a:ext cx="3395520" cy="4245120"/>
          </a:xfrm>
          <a:prstGeom prst="rect">
            <a:avLst/>
          </a:prstGeom>
          <a:ln w="9360">
            <a:solidFill>
              <a:srgbClr val="ba040c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 – Desk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797200"/>
            <a:ext cx="86104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roadcast vs. multi-purpo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ultiple outputs</a:t>
            </a:r>
            <a:br>
              <a:rPr sz="1800"/>
            </a:b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~ Balanced for distance </a:t>
            </a:r>
            <a:endParaRPr b="0" lang="en-US" sz="1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~ Unbalanced for recording etc</a:t>
            </a:r>
            <a:br>
              <a:rPr sz="1800"/>
            </a:b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~ USB for computer</a:t>
            </a:r>
            <a:endParaRPr b="0" lang="en-US" sz="1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ow many input channels?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Line in stereo; Mic – XL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FL, Balance, EQ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VU meters/LED Level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8616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77123" b="417745"/>
          <a:stretch/>
        </p:blipFill>
        <p:spPr>
          <a:xfrm>
            <a:off x="5734080" y="1752480"/>
            <a:ext cx="3409920" cy="5105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19920" y="1681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2138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 – Computer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900520"/>
            <a:ext cx="861048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Good new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c or Windows?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rocesso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AM –</a:t>
            </a:r>
            <a:r>
              <a:rPr b="0" lang="en-AU" sz="2800" spc="-1" strike="noStrike">
                <a:solidFill>
                  <a:srgbClr val="ffffff"/>
                </a:solidFill>
                <a:latin typeface="Lucida Grande"/>
              </a:rPr>
              <a:t> 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ll you ca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D Storag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ins and ou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USB 2.0, Ethernet, Wifi, PenDrive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cree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13740" t="246687" r="2672" b="137442"/>
          <a:stretch/>
        </p:blipFill>
        <p:spPr>
          <a:xfrm flipH="1" rot="10800000">
            <a:off x="0" y="0"/>
            <a:ext cx="5830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114800" y="297144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Setting up radio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To the web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Q &amp; A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8616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82880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19920" y="1681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2138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 – Effect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900520"/>
            <a:ext cx="861048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me digital/built in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OK for record/edi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Live voice vs. recorded fil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lutions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Effects loop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Compressor/limiter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Graphic EQ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ral excite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14800" y="4689360"/>
            <a:ext cx="4800600" cy="43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>
            <a:lum contrast="24000"/>
          </a:blip>
          <a:srcRect l="925" t="8058" r="1306" b="11076"/>
          <a:stretch/>
        </p:blipFill>
        <p:spPr>
          <a:xfrm>
            <a:off x="3429000" y="5983200"/>
            <a:ext cx="5486400" cy="4842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4655520" y="2773080"/>
            <a:ext cx="4356360" cy="2907360"/>
            <a:chOff x="4655520" y="2773080"/>
            <a:chExt cx="4356360" cy="2907360"/>
          </a:xfrm>
        </p:grpSpPr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875600">
              <a:off x="4607640" y="3360240"/>
              <a:ext cx="240012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875600">
              <a:off x="6659280" y="4605480"/>
              <a:ext cx="2400120" cy="48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" descr=""/>
          <p:cNvPicPr/>
          <p:nvPr/>
        </p:nvPicPr>
        <p:blipFill>
          <a:blip r:embed="rId7"/>
          <a:srcRect l="0" t="41047" r="0" b="40924"/>
          <a:stretch/>
        </p:blipFill>
        <p:spPr>
          <a:xfrm rot="5400000">
            <a:off x="5894640" y="3342240"/>
            <a:ext cx="40212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86160"/>
            <a:ext cx="5156280" cy="652932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4648320" y="1676520"/>
            <a:ext cx="4190760" cy="3733560"/>
            <a:chOff x="4648320" y="1676520"/>
            <a:chExt cx="4190760" cy="373356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7315200" y="1676520"/>
              <a:ext cx="1523880" cy="3733560"/>
            </a:xfrm>
            <a:prstGeom prst="rect">
              <a:avLst/>
            </a:prstGeom>
            <a:ln w="19080">
              <a:solidFill>
                <a:srgbClr val="ba040c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4648320" y="3886200"/>
              <a:ext cx="3949560" cy="1322280"/>
            </a:xfrm>
            <a:prstGeom prst="rect">
              <a:avLst/>
            </a:prstGeom>
            <a:ln w="19080">
              <a:solidFill>
                <a:srgbClr val="ba040c"/>
              </a:solidFill>
              <a:miter/>
            </a:ln>
          </p:spPr>
        </p:pic>
      </p:grp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82880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19920" y="1681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2138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 – Output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900520"/>
            <a:ext cx="86104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ransmitter and aerial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Power / range limits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Veronica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A Frequencies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Free and few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ired loop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Range solutions: balanced, 100v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nternet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Server and bandwidth: use the web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8616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1681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381560" y="2888280"/>
            <a:ext cx="4762440" cy="5607720"/>
            <a:chOff x="4381560" y="2888280"/>
            <a:chExt cx="4762440" cy="560772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rot="19690800">
              <a:off x="6019920" y="3314520"/>
              <a:ext cx="2184120" cy="19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"/>
            <a:srcRect l="0" t="0" r="-16667" b="-225390"/>
            <a:stretch/>
          </p:blipFill>
          <p:spPr>
            <a:xfrm>
              <a:off x="7554960" y="3659040"/>
              <a:ext cx="1589040" cy="29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5"/>
            <a:stretch/>
          </p:blipFill>
          <p:spPr>
            <a:xfrm rot="1743000">
              <a:off x="5181480" y="4228920"/>
              <a:ext cx="2428920" cy="39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2138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Gearing up – Interview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900520"/>
            <a:ext cx="8610480" cy="36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OT MP3! MPEG 4, AAC, AIFF, Wave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hone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Hybrid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Hand set modificatio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inidis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ape / DA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Edirol R09 vs Marantz PMD 660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ssu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2057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Legal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rot="2023800">
            <a:off x="5943240" y="3047760"/>
            <a:ext cx="2927520" cy="3319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2819520"/>
            <a:ext cx="86104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Transmitter ~ 500mW ~ No licence, few frequencies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med.govt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erformance Music ~ APRA $200pa - &gt; $2k ad revenue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apra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roduction Music ~ AMCOS: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apra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Copyright Act ~ ’nuff said: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med.govt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rivacy Act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privacy.org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Defamation Act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legislation.govt.nz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BSA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bsa.govt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ASA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asa.co.nz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09880" y="2819520"/>
            <a:ext cx="4876920" cy="35240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Cost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2895480"/>
            <a:ext cx="84582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etail discou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holesale age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mport yourself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hipp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ustom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Get quot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emember building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352680" y="2743200"/>
            <a:ext cx="5486400" cy="3962520"/>
          </a:xfrm>
          <a:prstGeom prst="rect">
            <a:avLst/>
          </a:prstGeom>
          <a:solidFill>
            <a:srgbClr val="ccffff"/>
          </a:solidFill>
          <a:ln w="25560">
            <a:solidFill>
              <a:srgbClr val="ba04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Helvetica 75 Bold"/>
              </a:rPr>
              <a:t>Entry Level Example 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PowerMacG4/400</a:t>
            </a:r>
            <a:r>
              <a:rPr b="0" lang="en-AU" sz="1600" spc="-1" strike="noStrike">
                <a:solidFill>
                  <a:srgbClr val="000000"/>
                </a:solidFill>
                <a:latin typeface="Helvetica 65 Medium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Helvetica 65 Medium"/>
              </a:rPr>
              <a:t>800mb RAM, 40g HD, CD</a:t>
            </a:r>
            <a:endParaRPr b="0" lang="en-US" sz="12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Helvetica 65 Medium"/>
              </a:rPr>
              <a:t>        </a:t>
            </a:r>
            <a:r>
              <a:rPr b="0" lang="en-AU" sz="1200" spc="-1" strike="noStrike">
                <a:solidFill>
                  <a:srgbClr val="000000"/>
                </a:solidFill>
                <a:latin typeface="Helvetica 65 Medium"/>
              </a:rPr>
              <a:t>ethernet, Firewire/USB 2, OSX, iLife 06, mouse</a:t>
            </a:r>
            <a:r>
              <a:rPr b="0" lang="en-AU" sz="1200" spc="-1" strike="noStrike">
                <a:solidFill>
                  <a:srgbClr val="000000"/>
                </a:solidFill>
                <a:latin typeface="Helvetica 65 Medium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65 Medium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Helvetica 65 Medium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65 Medium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Helvetica 65 Medium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80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Sound Studio licence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Helvetica 75 Bold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6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Veronica transmitter / aerial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68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AKG Perception 200 mics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295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Aquapoise stand 14192B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</a:t>
            </a:r>
            <a:r>
              <a:rPr b="0" lang="en-AU" sz="1200" spc="-1" strike="noStrike">
                <a:solidFill>
                  <a:srgbClr val="000000"/>
                </a:solidFill>
                <a:latin typeface="Helvetica 75 Bold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Helvetica 75 Bold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95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Yamaha MW12 USB mixer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72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Sony Minidisc recorder w. mic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635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DBX 166XL compressor/limiter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599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2 x powered monitor speakers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6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set AKG closed phones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              6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telephone handset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              2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Misc. cables and adaptors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60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TOTAL</a:t>
            </a: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(exc. building mods) </a:t>
            </a: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          $4724</a:t>
            </a:r>
            <a:endParaRPr b="0" lang="en-US" sz="1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Equipment Cost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0880" y="2895480"/>
            <a:ext cx="845820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ffordab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Freedom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ontrol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uild up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Use other PC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Examp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Hardware Source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2895480"/>
            <a:ext cx="845820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Direct Imports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directimports.co.nz/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he Bridge Networks 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the-bridge.com.au/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Products Group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audioproducts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Veronica Transmitters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veronica.co.uk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itec Aerials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hi-tec-aerials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ockshop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rockshop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usicWorks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musicworks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rands: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 Sony, Panasonic, Marantz, Sound Master…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Software and Source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2895480"/>
            <a:ext cx="85345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LIfe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Apple: www.apple.co.nz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 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  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pc/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und Studio 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Freeverse: www.freeverse.com</a:t>
            </a:r>
            <a:r>
              <a:rPr b="0" lang="en-AU" sz="2000" spc="-1" strike="noStrike">
                <a:solidFill>
                  <a:srgbClr val="ba040c"/>
                </a:solidFill>
                <a:latin typeface="Helvetica 65 Medium"/>
              </a:rPr>
              <a:t>    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 </a:t>
            </a:r>
            <a:r>
              <a:rPr b="0" lang="en-AU" sz="2000" spc="-1" strike="noStrike">
                <a:solidFill>
                  <a:srgbClr val="ba040c"/>
                </a:solidFill>
                <a:latin typeface="Helvetica 65 Medium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dobe Audition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adobe.com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         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PC/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egaseg 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(scheduler)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megaseg.com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PC/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tudio 365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live365.com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PC/MAC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 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icecast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rogueamoeba.com/nicecast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     PC/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ro: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izard, CoolEdit Pro, PCM Gold, Prolgger</a:t>
            </a:r>
            <a:br>
              <a:rPr sz="2400"/>
            </a:b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   Coda On Air Studio, Axia Audio…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000" spc="-1" strike="noStrike">
                <a:solidFill>
                  <a:srgbClr val="ba040c"/>
                </a:solidFill>
                <a:latin typeface="Helvetica 65 Medium"/>
              </a:rPr>
              <a:t>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mix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029200" y="2514600"/>
            <a:ext cx="3578400" cy="40244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Covering Cost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895480"/>
            <a:ext cx="84582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Fundrais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dvertis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work for clie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OT/Principal/PTFA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ommunity gra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TAR funding </a:t>
            </a: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(FaEM)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ponso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ommercial partne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 rot="9525600">
            <a:off x="2691720" y="-914400"/>
            <a:ext cx="6375240" cy="78994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Launch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 rot="19564200">
            <a:off x="4952880" y="1981080"/>
            <a:ext cx="4572000" cy="4208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04920" y="2895480"/>
            <a:ext cx="8534160" cy="36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taff &gt; Stude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R and Public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ea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low ’em away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Live in assembly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Posters, balloons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ncentivise!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Follow up fas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13740" t="246687" r="2672" b="137442"/>
          <a:stretch/>
        </p:blipFill>
        <p:spPr>
          <a:xfrm flipH="1" rot="10800000">
            <a:off x="0" y="0"/>
            <a:ext cx="5830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Propaganda is…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Cathedral College media bran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Christian/Catholic connected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Building commun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Provocative and challeng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Print, radio, video, web, brand manager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 rot="1067400">
            <a:off x="2768400" y="-520560"/>
            <a:ext cx="6375240" cy="7899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rot="19800000">
            <a:off x="5116680" y="2174760"/>
            <a:ext cx="3357360" cy="4343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477120" y="2666880"/>
            <a:ext cx="2208240" cy="312444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Keeping the faith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181480" y="3276720"/>
            <a:ext cx="2314800" cy="327636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715000" y="3962520"/>
            <a:ext cx="3276720" cy="231588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304920" y="2895480"/>
            <a:ext cx="853416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ules / Procedur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emplates, Playlis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oste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Keeping it kiwi: NZonAir </a:t>
            </a:r>
            <a:r>
              <a:rPr b="0" lang="en-AU" sz="2800" spc="-1" strike="noStrike">
                <a:solidFill>
                  <a:srgbClr val="ba040c"/>
                </a:solidFill>
                <a:latin typeface="Helvetica 65 Medium"/>
              </a:rPr>
              <a:t>www.nzonair.govt.nz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Keeping it fres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Keeping it grow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apping into your TA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7808760" y="4876920"/>
            <a:ext cx="854280" cy="1765080"/>
          </a:xfrm>
          <a:prstGeom prst="rect">
            <a:avLst/>
          </a:prstGeom>
          <a:ln w="19080">
            <a:solidFill>
              <a:srgbClr val="ba040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 rot="1067400">
            <a:off x="2768400" y="-520560"/>
            <a:ext cx="6375240" cy="7899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To the web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038480" y="3032280"/>
            <a:ext cx="4999320" cy="3749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114800" y="3214800"/>
            <a:ext cx="2941560" cy="20430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553080" y="3429000"/>
            <a:ext cx="2590920" cy="2373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4267080" y="5334120"/>
            <a:ext cx="4492800" cy="114768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304920" y="2895480"/>
            <a:ext cx="50292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erve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andwidt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S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lution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Downloads </a:t>
            </a: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(mp3)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Helvetica 75 Bold"/>
                <a:hlinkClick r:id="rId7"/>
              </a:rPr>
              <a:t>.Ma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</a:t>
            </a: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Helvetica 75 Bold"/>
                <a:hlinkClick r:id="rId8"/>
              </a:rPr>
              <a:t>Live 365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</a:t>
            </a: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Helvetica 75 Bold"/>
                <a:hlinkClick r:id="rId9"/>
              </a:rPr>
              <a:t>Nicecas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 rot="1067400">
            <a:off x="2768400" y="-520560"/>
            <a:ext cx="6375240" cy="7899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Q &amp; A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0552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over to you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73392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media education solutions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dave warring • 021 469 454 • warring@woosh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0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357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33920" y="4572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spread the word…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8534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0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8" nodeType="afterEffect" fill="hold" presetClass="entr" presetID="27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0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269847" b="936672"/>
          <a:stretch/>
        </p:blipFill>
        <p:spPr>
          <a:xfrm>
            <a:off x="2895480" y="533520"/>
            <a:ext cx="624852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Helvetica Black"/>
              </a:rPr>
              <a:t>Why propaganda?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ope Gregory XV 1622: Committee of cardinals responsible for foreign missions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ropaganda fide </a:t>
            </a:r>
            <a:r>
              <a:rPr b="0" lang="en-AU" sz="2400" spc="-1" strike="noStrike">
                <a:solidFill>
                  <a:srgbClr val="ba040c"/>
                </a:solidFill>
                <a:latin typeface="Helvetica 75 Bold"/>
              </a:rPr>
              <a:t>L: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i="1" lang="en-AU" sz="2400" spc="-1" strike="noStrike">
                <a:solidFill>
                  <a:srgbClr val="ffffff"/>
                </a:solidFill>
                <a:latin typeface="Helvetica 75 Bold"/>
              </a:rPr>
              <a:t>Dissemination of the fait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ymbol becomes a vehicle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pread the word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ave you heard? 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t’s out there… it’s in your head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Get the message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hink for yourself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23040" y="53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-573" t="-4468" r="-3053" b="616"/>
          <a:stretch/>
        </p:blipFill>
        <p:spPr>
          <a:xfrm rot="20096400">
            <a:off x="-689040" y="-1525680"/>
            <a:ext cx="6765840" cy="8382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Vision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Dynamic 21st C school commun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Entertain, inform, engage, discuss, debat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Platform for performe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Integrate: technology, enterprise, RE, media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Media-savvy young peop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Fu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1067400">
            <a:off x="2692080" y="-531720"/>
            <a:ext cx="6375240" cy="7899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Radio Format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on-commercial, community radio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A: CCC, co-ed Yr 7–13 (c. 11–17), poly-ethni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eflects and challenges ‘Special Character’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gazine &amp; music interactive lunch show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roadcasts for special occasion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Oral languages: not just Englis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usic, stories, news, plays, ivs, guests etc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-763" t="770" r="954" b="577812"/>
          <a:stretch/>
        </p:blipFill>
        <p:spPr>
          <a:xfrm rot="5401800">
            <a:off x="112680" y="115920"/>
            <a:ext cx="6375600" cy="6603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Distribution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User technology Independen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ulti-zone wired loop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n-class: messages, speakers, wet weathe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all: special occasion, live crosses…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Outdoor: lunch, sports, live crosses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Low power transmitter (FM): local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eb: worl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3215000">
            <a:off x="2692080" y="-532080"/>
            <a:ext cx="6375240" cy="7899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Beyond the Radio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eb pag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record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podcast downloads: shows, music et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DFs (newsletters, magazines)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Video downloads: QT movi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SS?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idening the school commun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954" t="464407" r="462977" b="770"/>
          <a:stretch/>
        </p:blipFill>
        <p:spPr>
          <a:xfrm rot="10801200">
            <a:off x="-1440" y="0"/>
            <a:ext cx="55371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Setting up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14800" y="2895480"/>
            <a:ext cx="47242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rocess and pat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Making the pitc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ick your partners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Watch this space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Gearing up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Legals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Costs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Launc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Keeping the fait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1:34:09Z</dcterms:created>
  <dc:creator>Dave Warring</dc:creator>
  <dc:description/>
  <dc:language>en-US</dc:language>
  <cp:lastModifiedBy>Dave Warring</cp:lastModifiedBy>
  <dcterms:modified xsi:type="dcterms:W3CDTF">2007-08-09T21:27:43Z</dcterms:modified>
  <cp:revision>19</cp:revision>
  <dc:subject/>
  <dc:title>PowerPoint Presentation</dc:title>
</cp:coreProperties>
</file>