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ct" ContentType="image/x-pict"/>
  <Override PartName="/ppt/media/image7.jpeg" ContentType="image/jpeg"/>
  <Override PartName="/ppt/media/image24.jpeg" ContentType="image/jpeg"/>
  <Override PartName="/ppt/media/image22.jpeg" ContentType="image/jpeg"/>
  <Override PartName="/ppt/media/image6.pct" ContentType="image/x-pict"/>
  <Override PartName="/ppt/media/image21.jpeg" ContentType="image/jpeg"/>
  <Override PartName="/ppt/media/image26.pct" ContentType="image/x-pict"/>
  <Override PartName="/ppt/media/image20.jpeg" ContentType="image/jpeg"/>
  <Override PartName="/ppt/media/image18.jpeg" ContentType="image/jpeg"/>
  <Override PartName="/ppt/media/image17.pct" ContentType="image/x-pict"/>
  <Override PartName="/ppt/media/image16.jpeg" ContentType="image/jpeg"/>
  <Override PartName="/ppt/media/image29.pct" ContentType="image/x-pict"/>
  <Override PartName="/ppt/media/image30.pct" ContentType="image/x-pict"/>
  <Override PartName="/ppt/media/image23.jpeg" ContentType="image/jpeg"/>
  <Override PartName="/ppt/media/image28.pct" ContentType="image/x-pict"/>
  <Override PartName="/ppt/media/image32.pct" ContentType="image/x-pict"/>
  <Override PartName="/ppt/media/image35.png" ContentType="image/png"/>
  <Override PartName="/ppt/media/image11.jpeg" ContentType="image/jpeg"/>
  <Override PartName="/ppt/media/image13.png" ContentType="image/png"/>
  <Override PartName="/ppt/media/image37.png" ContentType="image/png"/>
  <Override PartName="/ppt/media/image10.png" ContentType="image/png"/>
  <Override PartName="/ppt/media/image36.png" ContentType="image/png"/>
  <Override PartName="/ppt/media/image3.pct" ContentType="image/x-pict"/>
  <Override PartName="/ppt/media/image33.pct" ContentType="image/x-pict"/>
  <Override PartName="/ppt/media/image40.jpeg" ContentType="image/jpeg"/>
  <Override PartName="/ppt/media/image41.png" ContentType="image/png"/>
  <Override PartName="/ppt/media/image39.pct" ContentType="image/x-pict"/>
  <Override PartName="/ppt/media/image9.pct" ContentType="image/x-pict"/>
  <Override PartName="/ppt/media/image42.jpeg" ContentType="image/jpeg"/>
  <Override PartName="/ppt/media/image5.pct" ContentType="image/x-pict"/>
  <Override PartName="/ppt/media/image38.png" ContentType="image/png"/>
  <Override PartName="/ppt/media/image8.jpeg" ContentType="image/jpeg"/>
  <Override PartName="/ppt/media/image19.pct" ContentType="image/x-pict"/>
  <Override PartName="/ppt/media/image15.jpeg" ContentType="image/jpeg"/>
  <Override PartName="/ppt/media/image12.jpeg" ContentType="image/jpeg"/>
  <Override PartName="/ppt/media/image34.png" ContentType="image/png"/>
  <Override PartName="/ppt/media/image31.pct" ContentType="image/x-pict"/>
  <Override PartName="/ppt/media/image4.png" ContentType="image/png"/>
  <Override PartName="/ppt/media/image27.png" ContentType="image/png"/>
  <Override PartName="/ppt/media/image2.png" ContentType="image/pn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C73-63A4-42CC-922C-22E62A38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DC8-083E-4DA6-8763-B345346E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BB5-28F8-44EA-9EC8-D25BF286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E9A-1BE7-4A1A-9B76-8D3AA5CC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CA6-4AA2-40F4-A792-27981402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CA3-5CCF-486F-8F90-A07CDEDF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554-2271-4FCC-BB1C-B6472CBE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290-4A20-4A3B-B21F-80AD19F1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14A-CD7D-4B6A-92E3-A4A5FC70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3BF-F3C4-4849-A42C-8D5B465A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F00-F2CA-4DAA-9702-FA7D0417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E59-CB0D-48E3-BBF5-9A243045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0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a0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a04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a04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a0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ba0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ba04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040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ba040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ba040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ba040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ba040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ba040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887C-AB95-4678-9E58-51D50E7FEDC2}" type="slidenum">
              <a:rPr b="0" lang="en-AU" sz="1400" spc="-1" strike="noStrike">
                <a:solidFill>
                  <a:srgbClr val="ba040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9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5.pct"/><Relationship Id="rId3" Type="http://schemas.openxmlformats.org/officeDocument/2006/relationships/image" Target="../media/image26.pct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28.pct"/><Relationship Id="rId5" Type="http://schemas.openxmlformats.org/officeDocument/2006/relationships/image" Target="../media/image29.pct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1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32.pct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33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image" Target="../media/image39.pct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image" Target="../media/image42.jpeg"/><Relationship Id="rId7" Type="http://schemas.openxmlformats.org/officeDocument/2006/relationships/hyperlink" Target="http://www.apple.com/dotmac/" TargetMode="External"/><Relationship Id="rId8" Type="http://schemas.openxmlformats.org/officeDocument/2006/relationships/hyperlink" Target="http://www.live365.com/index.live" TargetMode="External"/><Relationship Id="rId9" Type="http://schemas.openxmlformats.org/officeDocument/2006/relationships/hyperlink" Target="http://www.rogueamoeba.com/nicecast/" TargetMode="External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74760" y="228600"/>
            <a:ext cx="4835520" cy="6362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3432240"/>
            <a:ext cx="8382240" cy="205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lack"/>
              </a:rPr>
              <a:t>get the messag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 rot="1067400">
            <a:off x="2768400" y="-533520"/>
            <a:ext cx="6375240" cy="7899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2895480"/>
            <a:ext cx="289548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Visio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ational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la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itch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urchas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uild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Launch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u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rot="19626600">
            <a:off x="3578040" y="2209680"/>
            <a:ext cx="2495520" cy="2895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24280" y="3048120"/>
            <a:ext cx="2644920" cy="2666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809880" y="4248000"/>
            <a:ext cx="3888000" cy="242280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238800" y="2819520"/>
            <a:ext cx="2652840" cy="373356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Process and path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17958000">
            <a:off x="-151920" y="0"/>
            <a:ext cx="6375240" cy="789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 flipH="1">
            <a:off x="4347720" y="2514600"/>
            <a:ext cx="4567320" cy="38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Making the pitch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895480"/>
            <a:ext cx="85341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hat’s in it for me?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Give ’em a visio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PR: sell the school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Community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Integrated learn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Open it up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Cost/return analysi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Schmoozing the board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291603" t="-1233" r="2672" b="818182"/>
          <a:stretch/>
        </p:blipFill>
        <p:spPr>
          <a:xfrm rot="7800">
            <a:off x="-1440" y="787320"/>
            <a:ext cx="5843520" cy="6070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79920" y="2732040"/>
            <a:ext cx="4259160" cy="3808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Pick your partner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895480"/>
            <a:ext cx="861048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eing blond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Use and abus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Cross-curricular cooperation: real client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Construction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Art / Graphic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ICT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Business/Enterpris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ponsor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8542200">
            <a:off x="-380880" y="-520200"/>
            <a:ext cx="6375240" cy="7899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Watch this space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630600" y="3124080"/>
            <a:ext cx="5208480" cy="347040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630600" y="3108240"/>
            <a:ext cx="5284800" cy="352116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304920" y="2895480"/>
            <a:ext cx="8534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Creative cupboard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rot="8542200">
            <a:off x="-380880" y="-520200"/>
            <a:ext cx="6375240" cy="789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1451" t="4103" r="2899" b="1582"/>
          <a:stretch/>
        </p:blipFill>
        <p:spPr>
          <a:xfrm>
            <a:off x="3048120" y="2630520"/>
            <a:ext cx="5562360" cy="3876480"/>
          </a:xfrm>
          <a:prstGeom prst="rect">
            <a:avLst/>
          </a:prstGeom>
          <a:ln w="9360">
            <a:solidFill>
              <a:srgbClr val="ba040c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Watch this space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2895480"/>
            <a:ext cx="8534160" cy="10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Draft a pla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8542200">
            <a:off x="-380880" y="-533520"/>
            <a:ext cx="6375240" cy="7899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Watch this space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2895480"/>
            <a:ext cx="8534160" cy="32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ound separatio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ake ove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nsulat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Dead ai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ork surfac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ower, cabling,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  web, phon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733920" y="3152880"/>
            <a:ext cx="5105160" cy="340020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rcRect l="0" t="4802" r="0" b="0"/>
          <a:stretch/>
        </p:blipFill>
        <p:spPr>
          <a:xfrm>
            <a:off x="3733920" y="3151080"/>
            <a:ext cx="5105160" cy="340200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1266794" t="-1233" r="954" b="1430663"/>
          <a:stretch/>
        </p:blipFill>
        <p:spPr>
          <a:xfrm rot="16188600">
            <a:off x="4747320" y="2466000"/>
            <a:ext cx="4084560" cy="469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672901" t="-616" r="1718" b="612481"/>
          <a:stretch/>
        </p:blipFill>
        <p:spPr>
          <a:xfrm rot="5388600">
            <a:off x="684360" y="-690840"/>
            <a:ext cx="5156280" cy="6529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Gearing up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00400" y="2778120"/>
            <a:ext cx="5665680" cy="377496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228600" y="2895480"/>
            <a:ext cx="861048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Don’t break the bank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Get good gea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sk pro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uy wholesal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any option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eg, borrow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void 2nd hand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672901" t="-616" r="1718" b="612481"/>
          <a:stretch/>
        </p:blipFill>
        <p:spPr>
          <a:xfrm rot="5388600">
            <a:off x="684360" y="-690840"/>
            <a:ext cx="5156280" cy="6529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048280" y="2057400"/>
            <a:ext cx="3790800" cy="4648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2873520"/>
            <a:ext cx="8610480" cy="36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Not stage mic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No proximity bass boost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any options –  Sennheiser, Be</a:t>
            </a:r>
            <a:r>
              <a:rPr b="0" lang="en-AU" sz="2800" spc="-1" strike="noStrike">
                <a:solidFill>
                  <a:srgbClr val="000000"/>
                </a:solidFill>
                <a:latin typeface="Helvetica 75 Bold"/>
              </a:rPr>
              <a:t>yer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Helvetica 75 Bold"/>
              </a:rPr>
              <a:t>Dynamic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est for $: AKG Perception 200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ød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ccessories: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  aquapoise stands 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  windsocks vs pop filter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Gearing up – Mic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672901" t="-616" r="1718" b="612481"/>
          <a:stretch/>
        </p:blipFill>
        <p:spPr>
          <a:xfrm rot="5388600">
            <a:off x="684360" y="-690840"/>
            <a:ext cx="5156280" cy="6529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 rot="20013000">
            <a:off x="5333760" y="2612880"/>
            <a:ext cx="3395520" cy="4245120"/>
          </a:xfrm>
          <a:prstGeom prst="rect">
            <a:avLst/>
          </a:prstGeom>
          <a:ln w="9360">
            <a:solidFill>
              <a:srgbClr val="ba040c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Gearing up – Desk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797200"/>
            <a:ext cx="86104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roadcast vs. multi-purpos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ultiple outputs</a:t>
            </a:r>
            <a:br>
              <a:rPr sz="1800"/>
            </a:b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~ Balanced for distance </a:t>
            </a:r>
            <a:endParaRPr b="0" lang="en-US" sz="1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~ Unbalanced for recording etc</a:t>
            </a:r>
            <a:br>
              <a:rPr sz="1800"/>
            </a:b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~ USB for computer</a:t>
            </a:r>
            <a:endParaRPr b="0" lang="en-US" sz="1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How many input channels?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Line in stereo; Mic – XL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FL, Balance, EQ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VU meters/LED Level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672901" t="-616" r="1718" b="612481"/>
          <a:stretch/>
        </p:blipFill>
        <p:spPr>
          <a:xfrm rot="5388600">
            <a:off x="684360" y="-686160"/>
            <a:ext cx="5156280" cy="6529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0" t="0" r="77123" b="417745"/>
          <a:stretch/>
        </p:blipFill>
        <p:spPr>
          <a:xfrm>
            <a:off x="5734080" y="1752480"/>
            <a:ext cx="3409920" cy="5105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19920" y="1681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21380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Gearing up – Computer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900520"/>
            <a:ext cx="861048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Good new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ac or Windows?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rocesso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AM –</a:t>
            </a:r>
            <a:r>
              <a:rPr b="0" lang="en-AU" sz="2800" spc="-1" strike="noStrike">
                <a:solidFill>
                  <a:srgbClr val="ffffff"/>
                </a:solidFill>
                <a:latin typeface="Lucida Grande"/>
              </a:rPr>
              <a:t> 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ll you ca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HD Storag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udio ins and ou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USB 2.0, Ethernet, Wifi, PenDrive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cree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13740" t="246687" r="2672" b="137442"/>
          <a:stretch/>
        </p:blipFill>
        <p:spPr>
          <a:xfrm flipH="1" rot="10800000">
            <a:off x="0" y="0"/>
            <a:ext cx="5830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114800" y="297144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Setting up radio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To the web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Q &amp; A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672901" t="-616" r="1718" b="612481"/>
          <a:stretch/>
        </p:blipFill>
        <p:spPr>
          <a:xfrm rot="5388600">
            <a:off x="684360" y="-686160"/>
            <a:ext cx="5156280" cy="6529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82880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19920" y="1681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21380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Gearing up – Effect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900520"/>
            <a:ext cx="8610480" cy="35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ome digital/built in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OK for record/edit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Live voice vs. recorded file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olutions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Effects loop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Compressor/limiter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Graphic EQ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ural excite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114800" y="4689360"/>
            <a:ext cx="4800600" cy="432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>
            <a:lum contrast="24000"/>
          </a:blip>
          <a:srcRect l="925" t="8058" r="1306" b="11076"/>
          <a:stretch/>
        </p:blipFill>
        <p:spPr>
          <a:xfrm>
            <a:off x="3429000" y="5983200"/>
            <a:ext cx="5486400" cy="4842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4655520" y="2773080"/>
            <a:ext cx="4356360" cy="2907360"/>
            <a:chOff x="4655520" y="2773080"/>
            <a:chExt cx="4356360" cy="2907360"/>
          </a:xfrm>
        </p:grpSpPr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 rot="1875600">
              <a:off x="4607640" y="3360240"/>
              <a:ext cx="240012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 rot="1875600">
              <a:off x="6659280" y="4605480"/>
              <a:ext cx="2400120" cy="48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" descr=""/>
          <p:cNvPicPr/>
          <p:nvPr/>
        </p:nvPicPr>
        <p:blipFill>
          <a:blip r:embed="rId7"/>
          <a:srcRect l="0" t="41047" r="0" b="40924"/>
          <a:stretch/>
        </p:blipFill>
        <p:spPr>
          <a:xfrm rot="5400000">
            <a:off x="5894640" y="3342240"/>
            <a:ext cx="40212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672901" t="-616" r="1718" b="612481"/>
          <a:stretch/>
        </p:blipFill>
        <p:spPr>
          <a:xfrm rot="5388600">
            <a:off x="684360" y="-686160"/>
            <a:ext cx="5156280" cy="652932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4648320" y="1676520"/>
            <a:ext cx="4190760" cy="3733560"/>
            <a:chOff x="4648320" y="1676520"/>
            <a:chExt cx="4190760" cy="373356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7315200" y="1676520"/>
              <a:ext cx="1523880" cy="3733560"/>
            </a:xfrm>
            <a:prstGeom prst="rect">
              <a:avLst/>
            </a:prstGeom>
            <a:ln w="19080">
              <a:solidFill>
                <a:srgbClr val="ba040c"/>
              </a:solidFill>
              <a:miter/>
            </a:ln>
          </p:spPr>
        </p:pic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4648320" y="3886200"/>
              <a:ext cx="3949560" cy="1322280"/>
            </a:xfrm>
            <a:prstGeom prst="rect">
              <a:avLst/>
            </a:prstGeom>
            <a:ln w="19080">
              <a:solidFill>
                <a:srgbClr val="ba040c"/>
              </a:solidFill>
              <a:miter/>
            </a:ln>
          </p:spPr>
        </p:pic>
      </p:grp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82880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19920" y="1681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21380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Gearing up – Output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900520"/>
            <a:ext cx="86104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ransmitter and aerial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Power / range limits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Veronica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A Frequencies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Free and few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ired loop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Range solutions: balanced, 100v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nternet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Server and bandwidth: use the web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672901" t="-616" r="1718" b="612481"/>
          <a:stretch/>
        </p:blipFill>
        <p:spPr>
          <a:xfrm rot="5388600">
            <a:off x="684360" y="-686160"/>
            <a:ext cx="5156280" cy="6529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1681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381560" y="2888280"/>
            <a:ext cx="4762440" cy="5607720"/>
            <a:chOff x="4381560" y="2888280"/>
            <a:chExt cx="4762440" cy="560772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 rot="19690800">
              <a:off x="6019920" y="3314520"/>
              <a:ext cx="2184120" cy="19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"/>
            <a:srcRect l="0" t="0" r="-16667" b="-225390"/>
            <a:stretch/>
          </p:blipFill>
          <p:spPr>
            <a:xfrm>
              <a:off x="7554960" y="3659040"/>
              <a:ext cx="1589040" cy="29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5"/>
            <a:stretch/>
          </p:blipFill>
          <p:spPr>
            <a:xfrm rot="1743000">
              <a:off x="5181480" y="4228920"/>
              <a:ext cx="2428920" cy="39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21380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Gearing up – Interview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900520"/>
            <a:ext cx="8610480" cy="36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NOT MP3! MPEG 4, AAC, AIFF, Wave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hone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Hybrid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Hand set modificatio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inidisc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ape / DAT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Edirol R09 vs Marantz PMD 660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ssue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1263359" t="234669" r="2672" b="229738"/>
          <a:stretch/>
        </p:blipFill>
        <p:spPr>
          <a:xfrm rot="21598800">
            <a:off x="-1080" y="-2880"/>
            <a:ext cx="4087800" cy="6859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20570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Legal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 rot="2023800">
            <a:off x="5943240" y="3047760"/>
            <a:ext cx="2927520" cy="3319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" y="2819520"/>
            <a:ext cx="861048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Transmitter ~ 500mW ~ No licence, few frequencies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med.govt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Performance Music ~ APRA $200pa - &gt; $2k ad revenue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apra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Production Music ~ AMCOS: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apra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Copyright Act ~ ’nuff said: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med.govt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Privacy Act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privacy.org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Defamation Act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legislation.govt.nz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BSA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bsa.govt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ASA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asa.co.nz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1263359" t="234669" r="2672" b="229738"/>
          <a:stretch/>
        </p:blipFill>
        <p:spPr>
          <a:xfrm rot="21598800">
            <a:off x="-1080" y="-2880"/>
            <a:ext cx="4087800" cy="6859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809880" y="2819520"/>
            <a:ext cx="4876920" cy="35240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Cost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880" y="2895480"/>
            <a:ext cx="84582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etail discoun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holesale agen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mport yourself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hipp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Custom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Get quote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emember building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1263359" t="234669" r="2672" b="229738"/>
          <a:stretch/>
        </p:blipFill>
        <p:spPr>
          <a:xfrm rot="21598800">
            <a:off x="-1080" y="-2880"/>
            <a:ext cx="4087800" cy="6859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352680" y="2743200"/>
            <a:ext cx="5486400" cy="3962520"/>
          </a:xfrm>
          <a:prstGeom prst="rect">
            <a:avLst/>
          </a:prstGeom>
          <a:solidFill>
            <a:srgbClr val="ccffff"/>
          </a:solidFill>
          <a:ln w="25560">
            <a:solidFill>
              <a:srgbClr val="ba04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Helvetica 75 Bold"/>
              </a:rPr>
              <a:t>Entry Level Example 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PowerMacG4/400</a:t>
            </a:r>
            <a:r>
              <a:rPr b="0" lang="en-AU" sz="1600" spc="-1" strike="noStrike">
                <a:solidFill>
                  <a:srgbClr val="000000"/>
                </a:solidFill>
                <a:latin typeface="Helvetica 65 Medium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Helvetica 65 Medium"/>
              </a:rPr>
              <a:t>800mb RAM, 40g HD, CD</a:t>
            </a:r>
            <a:endParaRPr b="0" lang="en-US" sz="12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Helvetica 65 Medium"/>
              </a:rPr>
              <a:t>        </a:t>
            </a:r>
            <a:r>
              <a:rPr b="0" lang="en-AU" sz="1200" spc="-1" strike="noStrike">
                <a:solidFill>
                  <a:srgbClr val="000000"/>
                </a:solidFill>
                <a:latin typeface="Helvetica 65 Medium"/>
              </a:rPr>
              <a:t>ethernet, Firewire/USB 2, OSX, iLife 06, mouse</a:t>
            </a:r>
            <a:r>
              <a:rPr b="0" lang="en-AU" sz="1200" spc="-1" strike="noStrike">
                <a:solidFill>
                  <a:srgbClr val="000000"/>
                </a:solidFill>
                <a:latin typeface="Helvetica 65 Medium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65 Medium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Helvetica 65 Medium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65 Medium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Helvetica 65 Medium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80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Sound Studio licence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Helvetica 75 Bold"/>
              </a:rPr>
              <a:t>  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6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Veronica transmitter / aerial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68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AKG Perception 200 mics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295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Aquapoise stand 14192B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</a:t>
            </a:r>
            <a:r>
              <a:rPr b="0" lang="en-AU" sz="1200" spc="-1" strike="noStrike">
                <a:solidFill>
                  <a:srgbClr val="000000"/>
                </a:solidFill>
                <a:latin typeface="Helvetica 75 Bold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Helvetica 75 Bold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95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Yamaha MW12 USB mixer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72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Sony Minidisc recorder w. mic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635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DBX 166XL compressor/limiter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599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2 x powered monitor speakers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   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6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set AKG closed phones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               6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1 x telephone handset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                  2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Misc. cables and adaptors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Helvetica 75 Bold"/>
              </a:rPr>
              <a:t>   600</a:t>
            </a:r>
            <a:endParaRPr b="0" lang="en-US" sz="16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Helvetica 65 Medium"/>
              </a:rPr>
              <a:t>TOTAL</a:t>
            </a:r>
            <a:r>
              <a:rPr b="1" lang="en-AU" sz="1800" spc="-1" strike="noStrike">
                <a:solidFill>
                  <a:srgbClr val="000000"/>
                </a:solidFill>
                <a:latin typeface="Helvetica 65 Medium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Helvetica 65 Medium"/>
              </a:rPr>
              <a:t>(exc. building mods) </a:t>
            </a:r>
            <a:r>
              <a:rPr b="1" lang="en-AU" sz="1800" spc="-1" strike="noStrike">
                <a:solidFill>
                  <a:srgbClr val="000000"/>
                </a:solidFill>
                <a:latin typeface="Helvetica 65 Medium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Helvetica 65 Medium"/>
              </a:rPr>
              <a:t>          $4724</a:t>
            </a:r>
            <a:endParaRPr b="0" lang="en-US" sz="1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Equipment Cost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0880" y="2895480"/>
            <a:ext cx="8458200" cy="28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ffordabl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Freedom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Control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uild up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Use other PC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Exampl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1263359" t="234669" r="2672" b="229738"/>
          <a:stretch/>
        </p:blipFill>
        <p:spPr>
          <a:xfrm rot="21598800">
            <a:off x="-1080" y="-2880"/>
            <a:ext cx="4087800" cy="6859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Hardware Source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0880" y="2895480"/>
            <a:ext cx="845820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Direct Imports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directimports.co.nz/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he Bridge Networks 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the-bridge.com.au/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udio Products Group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audioproducts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Veronica Transmitters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veronica.co.uk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Hitec Aerials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hi-tec-aerials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ockshop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rockshop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usicWorks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www.musicworks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rands: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 Sony, Panasonic, Marantz, Sound Master…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1263359" t="234669" r="2672" b="229738"/>
          <a:stretch/>
        </p:blipFill>
        <p:spPr>
          <a:xfrm rot="21598800">
            <a:off x="-1080" y="-2880"/>
            <a:ext cx="4087800" cy="6859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Software and Source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880" y="2895480"/>
            <a:ext cx="85345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LIfe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Apple: www.apple.co.nz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            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             </a:t>
            </a:r>
            <a:r>
              <a:rPr b="0" lang="en-AU" sz="2000" spc="-1" strike="noStrike">
                <a:solidFill>
                  <a:srgbClr val="ffffff"/>
                </a:solidFill>
                <a:latin typeface="Helvetica 75 Bold"/>
              </a:rPr>
              <a:t>pc/MAC</a:t>
            </a:r>
            <a:endParaRPr b="0" lang="en-US" sz="2000" spc="-1" strike="noStrike">
              <a:solidFill>
                <a:srgbClr val="ba040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ound Studio 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Freeverse: www.freeverse.com</a:t>
            </a:r>
            <a:r>
              <a:rPr b="0" lang="en-AU" sz="2000" spc="-1" strike="noStrike">
                <a:solidFill>
                  <a:srgbClr val="ba040c"/>
                </a:solidFill>
                <a:latin typeface="Helvetica 65 Medium"/>
              </a:rPr>
              <a:t>    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 </a:t>
            </a:r>
            <a:r>
              <a:rPr b="0" lang="en-AU" sz="2000" spc="-1" strike="noStrike">
                <a:solidFill>
                  <a:srgbClr val="ba040c"/>
                </a:solidFill>
                <a:latin typeface="Helvetica 65 Medium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Helvetica 75 Bold"/>
              </a:rPr>
              <a:t>MAC</a:t>
            </a:r>
            <a:endParaRPr b="0" lang="en-US" sz="2000" spc="-1" strike="noStrike">
              <a:solidFill>
                <a:srgbClr val="ba040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dobe Audition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adobe.com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         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           </a:t>
            </a:r>
            <a:r>
              <a:rPr b="0" lang="en-AU" sz="2000" spc="-1" strike="noStrike">
                <a:solidFill>
                  <a:srgbClr val="ffffff"/>
                </a:solidFill>
                <a:latin typeface="Helvetica 75 Bold"/>
              </a:rPr>
              <a:t>PC/MAC</a:t>
            </a:r>
            <a:endParaRPr b="0" lang="en-US" sz="2000" spc="-1" strike="noStrike">
              <a:solidFill>
                <a:srgbClr val="ba040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egaseg </a:t>
            </a:r>
            <a:r>
              <a:rPr b="0" lang="en-AU" sz="1800" spc="-1" strike="noStrike">
                <a:solidFill>
                  <a:srgbClr val="ffffff"/>
                </a:solidFill>
                <a:latin typeface="Helvetica 75 Bold"/>
              </a:rPr>
              <a:t>(scheduler)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megaseg.com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          </a:t>
            </a:r>
            <a:r>
              <a:rPr b="0" lang="en-AU" sz="2000" spc="-1" strike="noStrike">
                <a:solidFill>
                  <a:srgbClr val="ffffff"/>
                </a:solidFill>
                <a:latin typeface="Helvetica 75 Bold"/>
              </a:rPr>
              <a:t>PC/MAC</a:t>
            </a:r>
            <a:endParaRPr b="0" lang="en-US" sz="2000" spc="-1" strike="noStrike">
              <a:solidFill>
                <a:srgbClr val="ba040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tudio 365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live365.com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          </a:t>
            </a:r>
            <a:r>
              <a:rPr b="0" lang="en-AU" sz="2000" spc="-1" strike="noStrike">
                <a:solidFill>
                  <a:srgbClr val="ffffff"/>
                </a:solidFill>
                <a:latin typeface="Helvetica 75 Bold"/>
              </a:rPr>
              <a:t>PC/MAC</a:t>
            </a:r>
            <a:r>
              <a:rPr b="0" lang="en-AU" sz="2400" spc="-1" strike="noStrike">
                <a:solidFill>
                  <a:srgbClr val="ffffff"/>
                </a:solidFill>
                <a:latin typeface="Helvetica 65 Medium"/>
              </a:rPr>
              <a:t> 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Nicecast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ww.rogueamoeba.com/nicecast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      PC/MAC</a:t>
            </a:r>
            <a:endParaRPr b="0" lang="en-US" sz="2000" spc="-1" strike="noStrike">
              <a:solidFill>
                <a:srgbClr val="ba040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ro:</a:t>
            </a:r>
            <a:r>
              <a:rPr b="0" lang="en-AU" sz="2400" spc="-1" strike="noStrike">
                <a:solidFill>
                  <a:srgbClr val="ba040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Wizard, CoolEdit Pro, PCM Gold, Prolgger</a:t>
            </a:r>
            <a:br>
              <a:rPr sz="2400"/>
            </a:b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   Coda On Air Studio, Axia Audio…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400" spc="-1" strike="noStrike">
                <a:solidFill>
                  <a:srgbClr val="ba040c"/>
                </a:solidFill>
                <a:latin typeface="Helvetica 65 Medium"/>
              </a:rPr>
              <a:t>	</a:t>
            </a:r>
            <a:r>
              <a:rPr b="0" lang="en-AU" sz="2000" spc="-1" strike="noStrike">
                <a:solidFill>
                  <a:srgbClr val="ba040c"/>
                </a:solidFill>
                <a:latin typeface="Helvetica 65 Medium"/>
              </a:rPr>
              <a:t>        </a:t>
            </a:r>
            <a:r>
              <a:rPr b="0" lang="en-AU" sz="2000" spc="-1" strike="noStrike">
                <a:solidFill>
                  <a:srgbClr val="ffffff"/>
                </a:solidFill>
                <a:latin typeface="Helvetica 65 Medium"/>
              </a:rPr>
              <a:t>mix</a:t>
            </a:r>
            <a:endParaRPr b="0" lang="en-US" sz="20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1263359" t="234669" r="2672" b="229738"/>
          <a:stretch/>
        </p:blipFill>
        <p:spPr>
          <a:xfrm rot="21598800">
            <a:off x="-1080" y="-2880"/>
            <a:ext cx="4087800" cy="6859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029200" y="2514600"/>
            <a:ext cx="3578400" cy="40244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Covering Costs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895480"/>
            <a:ext cx="845820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Fundrais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dvertis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udio work for clien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OT/Principal/PTFA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Community gran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TAR funding </a:t>
            </a: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(FaEM)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ponsor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Commercial partner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 rot="9525600">
            <a:off x="2691720" y="-914400"/>
            <a:ext cx="6375240" cy="78994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Launch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 rot="19564200">
            <a:off x="4952880" y="1981080"/>
            <a:ext cx="4572000" cy="4208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04920" y="2895480"/>
            <a:ext cx="8534160" cy="36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taff &gt; Studen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R and Publicity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eas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low ’em away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Live in assembly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Posters, balloons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ncentivise!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Follow up fast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13740" t="246687" r="2672" b="137442"/>
          <a:stretch/>
        </p:blipFill>
        <p:spPr>
          <a:xfrm flipH="1" rot="10800000">
            <a:off x="0" y="0"/>
            <a:ext cx="5830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205704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Propaganda is…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Cathedral College media brand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Christian/Catholic connected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Building community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Provocative and challeng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75 Bold"/>
              </a:rPr>
              <a:t>Print, radio, video, web, brand manager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100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 rot="1067400">
            <a:off x="2768400" y="-520560"/>
            <a:ext cx="6375240" cy="7899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rot="19800000">
            <a:off x="5116680" y="2174760"/>
            <a:ext cx="3357360" cy="4343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477120" y="2666880"/>
            <a:ext cx="2208240" cy="312444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Keeping the faith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181480" y="3276720"/>
            <a:ext cx="2314800" cy="327636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715000" y="3962520"/>
            <a:ext cx="3276720" cy="231588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304920" y="2895480"/>
            <a:ext cx="853416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ules / Procedure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emplates, Playlist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oster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Keeping it kiwi: NZonAir </a:t>
            </a:r>
            <a:r>
              <a:rPr b="0" lang="en-AU" sz="2800" spc="-1" strike="noStrike">
                <a:solidFill>
                  <a:srgbClr val="ba040c"/>
                </a:solidFill>
                <a:latin typeface="Helvetica 65 Medium"/>
              </a:rPr>
              <a:t>www.nzonair.govt.nz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Keeping it fresh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Keeping it grow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apping into your TA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7808760" y="4876920"/>
            <a:ext cx="854280" cy="1765080"/>
          </a:xfrm>
          <a:prstGeom prst="rect">
            <a:avLst/>
          </a:prstGeom>
          <a:ln w="19080">
            <a:solidFill>
              <a:srgbClr val="ba040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 rot="1067400">
            <a:off x="2768400" y="-520560"/>
            <a:ext cx="6375240" cy="7899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To the web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038480" y="3032280"/>
            <a:ext cx="4999320" cy="3749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114800" y="3214800"/>
            <a:ext cx="2941560" cy="204300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6553080" y="3429000"/>
            <a:ext cx="2590920" cy="2373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4267080" y="5334120"/>
            <a:ext cx="4492800" cy="1147680"/>
          </a:xfrm>
          <a:prstGeom prst="rect">
            <a:avLst/>
          </a:prstGeom>
          <a:ln w="19080">
            <a:solidFill>
              <a:srgbClr val="ba040c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304920" y="2895480"/>
            <a:ext cx="502920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erve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andwidth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S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olution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Downloads </a:t>
            </a: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(mp3)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 </a:t>
            </a:r>
            <a:r>
              <a:rPr b="0" lang="en-AU" sz="2800" spc="-1" strike="noStrike" u="sng">
                <a:solidFill>
                  <a:srgbClr val="009999"/>
                </a:solidFill>
                <a:uFillTx/>
                <a:latin typeface="Helvetica 75 Bold"/>
                <a:hlinkClick r:id="rId7"/>
              </a:rPr>
              <a:t>.Mac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</a:t>
            </a: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 </a:t>
            </a:r>
            <a:r>
              <a:rPr b="0" lang="en-AU" sz="2800" spc="-1" strike="noStrike" u="sng">
                <a:solidFill>
                  <a:srgbClr val="009999"/>
                </a:solidFill>
                <a:uFillTx/>
                <a:latin typeface="Helvetica 75 Bold"/>
                <a:hlinkClick r:id="rId8"/>
              </a:rPr>
              <a:t>Live 365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~</a:t>
            </a: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 </a:t>
            </a:r>
            <a:r>
              <a:rPr b="0" lang="en-AU" sz="2800" spc="-1" strike="noStrike" u="sng">
                <a:solidFill>
                  <a:srgbClr val="009999"/>
                </a:solidFill>
                <a:uFillTx/>
                <a:latin typeface="Helvetica 75 Bold"/>
                <a:hlinkClick r:id="rId9"/>
              </a:rPr>
              <a:t>Nicecast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 rot="1067400">
            <a:off x="2768400" y="-520560"/>
            <a:ext cx="6375240" cy="78991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Q &amp; A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0552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over to you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73392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media education solutions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dave warring • 021 469 454 • warring@woosh.co.nz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0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357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733920" y="4572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spread the word…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8534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0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8" nodeType="afterEffect" fill="hold" presetClass="entr" presetID="27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0" dur="3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1" dur="3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3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269847" b="936672"/>
          <a:stretch/>
        </p:blipFill>
        <p:spPr>
          <a:xfrm>
            <a:off x="2895480" y="533520"/>
            <a:ext cx="624852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Helvetica Black"/>
              </a:rPr>
              <a:t>Why propaganda?</a:t>
            </a:r>
            <a:endParaRPr b="0" lang="en-US" sz="3200" spc="-1" strike="noStrike">
              <a:solidFill>
                <a:srgbClr val="ba040c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ope Gregory XV 1622: Committee of cardinals responsible for foreign missions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ropaganda fide </a:t>
            </a:r>
            <a:r>
              <a:rPr b="0" lang="en-AU" sz="2400" spc="-1" strike="noStrike">
                <a:solidFill>
                  <a:srgbClr val="ba040c"/>
                </a:solidFill>
                <a:latin typeface="Helvetica 75 Bold"/>
              </a:rPr>
              <a:t>L: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</a:t>
            </a:r>
            <a:r>
              <a:rPr b="0" i="1" lang="en-AU" sz="2400" spc="-1" strike="noStrike">
                <a:solidFill>
                  <a:srgbClr val="ffffff"/>
                </a:solidFill>
                <a:latin typeface="Helvetica 75 Bold"/>
              </a:rPr>
              <a:t>Dissemination of the faith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ymbol becomes a vehicle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Spread the word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Have you heard? 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t’s out there… it’s in your head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Get the message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hink for yourself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23040" y="53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-573" t="-4468" r="-3053" b="616"/>
          <a:stretch/>
        </p:blipFill>
        <p:spPr>
          <a:xfrm rot="20096400">
            <a:off x="-689040" y="-1525680"/>
            <a:ext cx="6765840" cy="8382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Vision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Helvetica 75 Bold"/>
              </a:rPr>
              <a:t>Dynamic 21st C school community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Helvetica 75 Bold"/>
              </a:rPr>
              <a:t>Entertain, inform, engage, discuss, debat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Helvetica 75 Bold"/>
              </a:rPr>
              <a:t>Platform for performer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Helvetica 75 Bold"/>
              </a:rPr>
              <a:t>Integrate: technology, enterprise, RE, media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Helvetica 75 Bold"/>
              </a:rPr>
              <a:t>Media-savvy young people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Helvetica 75 Bold"/>
              </a:rPr>
              <a:t>Fun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100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1067400">
            <a:off x="2692080" y="-531720"/>
            <a:ext cx="6375240" cy="7899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Radio Format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Non-commercial, community radio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TA: CCC, co-ed Yr 7–13 (c. 11–17), poly-ethnic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eflects and challenges ‘Special Character’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agazine &amp; music interactive lunch show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Broadcasts for special occasion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Oral languages: not just English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usic, stories, news, plays, ivs, guests etc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100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-763" t="770" r="954" b="577812"/>
          <a:stretch/>
        </p:blipFill>
        <p:spPr>
          <a:xfrm rot="5401800">
            <a:off x="112680" y="115920"/>
            <a:ext cx="6375600" cy="6603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Distribution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User technology Independent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Multi-zone wired loop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In-class: messages, speakers, wet weather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Hall: special occasion, live crosses…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Outdoor: lunch, sports, live crosses…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Low power transmitter (FM): local 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eb: world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4100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13215000">
            <a:off x="2692080" y="-532080"/>
            <a:ext cx="6375240" cy="78994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Helvetica Black"/>
              </a:rPr>
              <a:t>Beyond the Radio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a040c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eb page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udio recording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Audio podcast downloads: shows, music etc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PDFs (newsletters, magazines)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Video downloads: QT movies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RSS?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  <a:p>
            <a:pPr marL="190440" indent="-50760">
              <a:lnSpc>
                <a:spcPct val="100000"/>
              </a:lnSpc>
              <a:spcBef>
                <a:spcPts val="700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Helvetica 75 Bold"/>
              </a:rPr>
              <a:t>Widening the school community</a:t>
            </a:r>
            <a:endParaRPr b="0" lang="en-US" sz="28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4100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case study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954" t="464407" r="462977" b="770"/>
          <a:stretch/>
        </p:blipFill>
        <p:spPr>
          <a:xfrm rot="10801200">
            <a:off x="-1440" y="0"/>
            <a:ext cx="55371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lack"/>
              </a:rPr>
              <a:t>Setting up</a:t>
            </a:r>
            <a:endParaRPr b="0" lang="en-US" sz="3600" spc="-1" strike="noStrike">
              <a:solidFill>
                <a:srgbClr val="ba040c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95320" y="457200"/>
            <a:ext cx="5551560" cy="1360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14800" y="2895480"/>
            <a:ext cx="47242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Process and path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Making the pitch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Pick your partners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Watch this space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Gearing up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Legals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Costs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Launch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040c"/>
              </a:buClr>
              <a:buFont typeface="Helvetica 7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Helvetica 75 Bold"/>
              </a:rPr>
              <a:t>Keeping the faith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1676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75 Bold"/>
              </a:rPr>
              <a:t>how to</a:t>
            </a:r>
            <a:endParaRPr b="0" lang="en-US" sz="2400" spc="-1" strike="noStrike">
              <a:solidFill>
                <a:srgbClr val="ba04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1:34:09Z</dcterms:created>
  <dc:creator>Dave Warring</dc:creator>
  <dc:description/>
  <dc:language>en-US</dc:language>
  <cp:lastModifiedBy>Dave Warring</cp:lastModifiedBy>
  <dcterms:modified xsi:type="dcterms:W3CDTF">2007-08-09T21:27:43Z</dcterms:modified>
  <cp:revision>19</cp:revision>
  <dc:subject/>
  <dc:title>PowerPoint Presentation</dc:title>
</cp:coreProperties>
</file>