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pct" ContentType="image/x-pict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958388" cy="1441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5808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581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583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5808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581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241200"/>
            <a:ext cx="5486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5808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58160" y="152388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583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5808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58160" y="4190760"/>
            <a:ext cx="266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241200"/>
            <a:ext cx="5486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01320" y="419076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1320" y="1523880"/>
            <a:ext cx="404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8360" y="4190760"/>
            <a:ext cx="8280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-838080" y="5596920"/>
            <a:ext cx="2057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ity of Au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485640" y="3720960"/>
            <a:ext cx="1371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-596520" y="2079360"/>
            <a:ext cx="1600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6480" y="3041640"/>
            <a:ext cx="30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3240" y="4641840"/>
            <a:ext cx="3081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5040" y="-324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63600" y="1353960"/>
            <a:ext cx="878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63600" y="1295280"/>
            <a:ext cx="878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-4680" y="1349280"/>
            <a:ext cx="307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4680" y="1292400"/>
            <a:ext cx="30780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600200"/>
            <a:ext cx="547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203120" y="5283000"/>
            <a:ext cx="274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ity of Au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450720" y="5713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6480" y="3943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94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8280" y="394344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8280" y="39942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5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03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8280" y="134928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280" y="140004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1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408480"/>
            <a:ext cx="5479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AAFC-4434-4008-AB95-61DA141ECD7E}" type="datetime3">
              <a:rPr b="0" lang="en-US" sz="16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74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9440" y="1600200"/>
            <a:ext cx="547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 introduction to formative assess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rene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4560" y="31237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 Studies Beacon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19480" y="299556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 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286000"/>
            <a:ext cx="6400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djusting teaching to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ount of the result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13372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recognition of the profound influence assessment has on the motivation and self-esteem of students, both of which are crucial influences on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 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2096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need for students to be able to assess themselves and understand how to impr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320920"/>
            <a:ext cx="912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ing Inten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ing 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6600" y="251460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297180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ccess Criteri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276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Ques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666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learning convers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5909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edbac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ed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tive assessment strategies include the use o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00200" y="2741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lf and peer assess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Use Learning Inten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752480"/>
            <a:ext cx="6096240" cy="11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Many pupils do not have a picture (of the targets their learning is meant to attain) and appear to have become accustomed to receiving classroom teaching as an arbitrary sequence of exercises with no overarching rationa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When pupils do acquire such overview, they then become more committed and more effective as learners: their own assessments become an object of discussion with their teachers and with one another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Black &amp; Wili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722600"/>
            <a:ext cx="39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formative assessmen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24080" y="1557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1600" y="1600200"/>
            <a:ext cx="7356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981080"/>
            <a:ext cx="7086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629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209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f we think of students as plan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91120" y="3809880"/>
            <a:ext cx="168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rning Int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these terms mean the same thing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arning inten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rning Inten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are we going to learn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may be written like this: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e are learning to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 be able to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 understand / explain / discuss et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da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we will be able to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tting learning intentions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ddled learning intentions lead 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ismatched activ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appropriate foc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wkward success crite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 understand how camera angles help to create suspense in fil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 understand how camera angles help to create suspense in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ccess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ow do we know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have met the learning inten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n success criteria are used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learning becomes more explic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udents can confirm, consolidate and integrate new knowled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ture learning is scaffol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udents can see what quality looks li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Ann Dav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es success criteria look 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arning Inten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o understand how camera angles help to create suspense in fil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cess Criter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I ca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 an example of how camera angles are used to create suspen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 on the effect of the example describ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my comments with reasons and/or justify t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alyse the use of camera shots by discussing their use in the film as a whole or other film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does research tell us about feedba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ttie’s meta analysis of influences 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ent achievement showe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verage effect was .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dback was .7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direct instruction and reciprocal teachi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re hig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ents’ prior cognitive ability followed feedbac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is effective feedba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should b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out the work, not the stud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ents, not grades or mar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imed at closing the gap between where the student is now and where he/she should be to achieve the stand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 example of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gain Merit you need to develop the effect of the low angle shot with more specific detai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gain excellence you need to consider how low angle shots are used elsewhere in the film or commonly used in other films of this gen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d improvement marking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8360" y="1523880"/>
            <a:ext cx="8280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Absolum, Michael. (2006) Clarity in the Classroom, Using Formative Assessment Hodder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Clarke, Shirley. (2005) Formative Assessment in the Secondary Classroom Hodder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Hawk, K. &amp; Hill, J. (2001) The Challenge of Formative Assessment in Secondary Classrooms SPANZ Journal, September 20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62960" y="2057400"/>
            <a:ext cx="703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mmative assessmen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lants is th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f simply measu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1981080"/>
            <a:ext cx="1533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measurements migh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esting to compare and analy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ut in themselves  they do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ffect the growth of the pl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447920"/>
            <a:ext cx="12453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ative assessment, o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and, is the ga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valent of f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atering the pla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ly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fecting their grow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wie and Bell, 19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447920"/>
            <a:ext cx="57909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rmative assessment  is the process used by teachers and children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cognize and respond to pupil learning, in order to enhance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ing during the activity or task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lack &amp; Wiliam (1999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213372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research indicates that improving learning through assessment depends on 5 deceptively simple key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33720"/>
            <a:ext cx="6477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provision of effect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edback to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Number 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133720"/>
            <a:ext cx="7239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active involvemen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s in thei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borah Thompson</cp:lastModifiedBy>
  <dcterms:modified xsi:type="dcterms:W3CDTF">2007-09-26T03:00:00Z</dcterms:modified>
  <cp:revision>11</cp:revision>
  <dc:subject/>
  <dc:title>An introduction to formative assessment</dc:title>
</cp:coreProperties>
</file>