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B8C-BAF9-4E30-A8F9-F83636AA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B17-B2AF-4353-AFE6-2FFCA8B2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FD2-A7AD-4BEF-9525-6D3DE163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842-9859-443A-8AD9-54FAE5B0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93A-EFED-4192-8152-F130FBB9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865-A530-44CC-805A-6DE8B558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A8B-6501-4A0B-BBF2-44D17264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136-138C-45AD-A4B9-14FC5CBB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146-FC44-43EF-A510-5338D9CC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E79-8A3F-46DC-8582-40F84E16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7BB-FB9C-4EF7-8FD3-B2AEAD58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94C-0AED-41A9-B1CF-01DB360C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7408-0EB8-4DEA-874C-6B7194CCC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gazine Front co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readers pick a magazi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key elements that attract readers to buy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9920" y="1981080"/>
            <a:ext cx="304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Elements on a c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 code and dat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1447920"/>
            <a:ext cx="1905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Cover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52388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1523880"/>
            <a:ext cx="39625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124080"/>
            <a:ext cx="1447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20040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3200400"/>
            <a:ext cx="14475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54864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57800" y="28954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553080" y="45720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419720"/>
            <a:ext cx="2057400" cy="914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00440" y="2438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476760" y="37339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400440" y="57150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st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“brand of the magazine and uses the same font and design each time so readers look for that particular “bran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large so that the readers can quickly see it at  a glance when skimming the mags. STAND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ders can instantly recognise the magazine label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in PINK - a “girlie” colour that would appeal to younger te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1447920"/>
            <a:ext cx="1905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52388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1523880"/>
            <a:ext cx="39625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1600200"/>
            <a:ext cx="19810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ame sounds like a girl’s name and this fits with the idea of it being a “friend “ to y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ame was tested on focus groups of target readers who liked this n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ver lines are the lines of print on a page, they can “tempt” the reader in by giving you clues to th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hion is a key aspect of the cover lines that would appeal to the target audienc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e different 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1447920"/>
            <a:ext cx="190512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a variety of FONTS and Sizes of type. This gives it a relaxed, put-together f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of yellow and 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Cover line is largest font, features a singer that would appeal to the age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124080"/>
            <a:ext cx="1447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320040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3200400"/>
            <a:ext cx="14475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553080" y="45720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4419720"/>
            <a:ext cx="2057400" cy="914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1447920"/>
            <a:ext cx="19051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$5.90 this is able to be purchased by tee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00440" y="2438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1447920"/>
            <a:ext cx="190512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of image that would appeal to teens…fits the idea of a beauty and fashion rol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picture surrounded by cover lines placed over th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how she is looking directly at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257800" y="2057400"/>
            <a:ext cx="1905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 cover lines that feature competitions that would be of interest to the r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efr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 direct appeal to readers  “your wardrob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ssy look to go with idea of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  A5  will fit in hand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371600" y="1523880"/>
            <a:ext cx="21337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50532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1320840"/>
            <a:ext cx="149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1600200"/>
            <a:ext cx="151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links to possible prizes that would appeal to teens interested in fash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attraction of COLOUR….green background with yellow and wh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434040" cy="464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ver is the key to getting an aud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 code and dat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523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447920"/>
            <a:ext cx="1905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Cover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152388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523880"/>
            <a:ext cx="39625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124080"/>
            <a:ext cx="1447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20040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3200400"/>
            <a:ext cx="14475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54864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257800" y="289548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553080" y="45720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419720"/>
            <a:ext cx="2057400" cy="914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400440" y="2438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76760" y="37339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400440" y="57150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6-12-09T22:05:28Z</dcterms:modified>
  <cp:revision>2</cp:revision>
  <dc:subject/>
  <dc:title>Magazine Front covers</dc:title>
</cp:coreProperties>
</file>