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714-C56B-4BB8-99B3-9F797B43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296-2D3D-45E1-83C7-36E89B7F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ECD-B253-49B0-92F2-37D96582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2D6-FE08-400E-B42C-FD088EC3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420-250C-41FD-A42E-C2F1DA66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327-C74F-4515-B5CA-DB59146E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D42-A0F4-4871-9A31-3B9C0564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086E-E309-4005-A306-D11EA09D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C87A-9F70-4A9D-8127-9D161232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1367-B31E-4FD6-B12F-325E4285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9DA-E3EC-4394-8E39-0D52F464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15DB-CD68-4B29-B2F5-332125C6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CF1A-1B44-45A7-9DFD-32277DD71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gazine Front co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readers pick a magazin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key elements that attract readers to buy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9920" y="1981080"/>
            <a:ext cx="3040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3434040" cy="4647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Elements on a c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ver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 code and dat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6600" y="1447920"/>
            <a:ext cx="19051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Cover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523880"/>
            <a:ext cx="1676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1523880"/>
            <a:ext cx="39625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124080"/>
            <a:ext cx="14475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200400"/>
            <a:ext cx="1447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3200400"/>
            <a:ext cx="144756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54864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257800" y="289548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553080" y="45720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419720"/>
            <a:ext cx="2057400" cy="914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00440" y="24382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476760" y="37339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6400440" y="57150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3434040" cy="4647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sth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st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“brand of the magazine and uses the same font and design each time so readers look for that particular “bran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large so that the readers can quickly see it at  a glance when skimming the mags. STAND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ders can instantly recognise the magazine label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in PINK - a “girlie” colour that would appeal to younger te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1447920"/>
            <a:ext cx="1905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523880"/>
            <a:ext cx="1676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1523880"/>
            <a:ext cx="39625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1600200"/>
            <a:ext cx="198108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name sounds like a girl’s name and this fits with the idea of it being a “friend “ to yo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name was tested on focus groups of target readers who liked this na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3434040" cy="4647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ver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ver lines are the lines of print on a page, they can “tempt” the reader in by giving you clues to the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ver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hion is a key aspect of the cover lines that would appeal to the target audienc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e different s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1447920"/>
            <a:ext cx="190512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a variety of FONTS and Sizes of type. This gives it a relaxed, put-together fe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of yellow and wh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Cover line is largest font, features a singer that would appeal to the age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3124080"/>
            <a:ext cx="14475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3200400"/>
            <a:ext cx="1447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3200400"/>
            <a:ext cx="144756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553080" y="45720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4419720"/>
            <a:ext cx="2057400" cy="914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3434040" cy="4647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1447920"/>
            <a:ext cx="19051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$5.90 this is able to be purchased by teena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00440" y="24382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3434040" cy="4647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I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6600" y="1447920"/>
            <a:ext cx="190512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of image that would appeal to teens…fits the idea of a beauty and fashion rol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picture surrounded by cover lines placed over the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how she is looking directly at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257800" y="2057400"/>
            <a:ext cx="1905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3434040" cy="4647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 cover lines that feature competitions that would be of interest to the re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efre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 direct appeal to readers  “your wardrob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ossy look to go with idea of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ZE  A5  will fit in hand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371600" y="1523880"/>
            <a:ext cx="21337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505320"/>
            <a:ext cx="838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15040" y="1320840"/>
            <a:ext cx="149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1600200"/>
            <a:ext cx="1514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links to possible prizes that would appeal to teens interested in fash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attraction of COLOUR….green background with yellow and wh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3434040" cy="4647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ver is the key to getting an aud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ver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 code and dat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447920"/>
            <a:ext cx="19051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Cover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1523880"/>
            <a:ext cx="1676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523880"/>
            <a:ext cx="39625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124080"/>
            <a:ext cx="14475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200400"/>
            <a:ext cx="1447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3200400"/>
            <a:ext cx="144756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54864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257800" y="289548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553080" y="45720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4419720"/>
            <a:ext cx="2057400" cy="914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400440" y="24382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476760" y="37339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400440" y="57150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istry of Education</cp:lastModifiedBy>
  <dcterms:modified xsi:type="dcterms:W3CDTF">2006-12-09T22:05:28Z</dcterms:modified>
  <cp:revision>2</cp:revision>
  <dc:subject/>
  <dc:title>Magazine Front covers</dc:title>
</cp:coreProperties>
</file>