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73B-F382-4535-9166-65C6B053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6C5-BA94-435E-8CD1-772B6D82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EF4-A83D-485D-BE68-C297ADCF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93A-8CEB-45DA-975B-8DDCA9D5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3D95-E930-43C0-8D84-ED96FCFB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CFD0-7512-4E6A-9A53-B35FE4A4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E14E-FD36-4ECB-A301-5B403ED9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AB24-0619-4CE5-A7ED-22CA8600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4242-3037-47D3-BA02-C30BDE89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DD88-E1F6-445D-A2CD-F6DAC969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0C1C-72A6-4CAF-B682-8817989D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4B5-DCCF-4819-8B27-CA0C1461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D68B-5FF8-4D66-96B5-CA632517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2118-5A01-46D7-B9FB-1C5DAC1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5FEA-0AE1-45A7-8DD6-63893D9C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71FE-0962-41DD-95F7-EE19A3EC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A926-D272-4161-8B88-159C4F99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108-058F-4776-8E76-93F468EC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CD7-A228-4730-AC19-AB84150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0E4-8D73-4507-AD3B-279856B0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109-CF99-4DD4-A193-7D938998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8CE-8032-48DF-8D80-7EEDE7CD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87C-3302-49F4-B791-D1653B9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A1A-4944-4BC0-A0D9-1F0A0CC2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653C-5283-4142-9894-66FBE7D2A2D6}" type="slidenum"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3CF6-ABA6-4F2A-B4F7-8964382B67CE}" type="slidenum">
              <a:rPr b="0" lang="en-N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Importance of Media Audienc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Measuring audience..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Demographic profi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TAG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 Target Audience Group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Used by ACNeilsen,  a company that gathers information on audien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Groups are based on information on lifestyle, attitude and media consum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se are called Psychographic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C Nielsen Surveys 12,000 people aged 10+ each year to create these profi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4563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TA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.7 different grou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iberal Sophisticates – 12% of the 10+ popu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Young Hopefuls – 1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Affluent Acquirers – 7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truggling Young Families – 12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Comfortable Full Nesters – 10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Settled Seniors – 13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Lonely and Dissatisfied – 18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Next Generation – 9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45632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0000"/>
                </a:solidFill>
                <a:latin typeface="Comic Sans MS"/>
              </a:rPr>
              <a:t>Demographic Profile Questionnai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demographic profile questionnaire that you think AC Nielsen would use to find out information about consumer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must have at least 10 questions on it  eg What is your level of educ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Relationship between Audience and Media Produ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media audienc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s the group of people who purchase a media produ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 is the group that the producers are aiming their magazine or TV show 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y are important because without an audience a media product would not sell and so would not make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629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New Zealand has a population of 4 mill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New Zealand media industry has a population made up of over 6,000 magazine titles – 650 locally publish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pproximately 300 cinema screens, 200 radio stations, 45 television channels, over 100 metropolitan and community newspaper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n advertising expenditure of approximately NZ$1.5 billion annuall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agaz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magazin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readership is important because this determines how much they can charge advertisers …….the greater the readership the more they can charge per advertisemen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gazines make money from the advertising NOT the price you pay for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694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848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dvertisers are also interested in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YPE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of audience that the magazine attracts. This information is called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EMOGRAPHIC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of an audi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 groups brainstorm all the different ways you could divide up the New Zealand population eg gender (Male/ Fema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694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289548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..so they will know which are the best magazines to advertise in to attract buyers of their produ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990720"/>
            <a:ext cx="633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Y do ADVERTISERS want to know details about the people who read magaz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8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azine producers gather lots of information on their audiences so they can try and convince the advertisers to place ads in their magaz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sort of information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do you think advertisers and magazine producers would like to know about their audiences?  </a:t>
            </a:r>
            <a:r>
              <a:rPr b="0" i="1" lang="en-NZ" sz="3200" spc="-1" strike="noStrike">
                <a:solidFill>
                  <a:srgbClr val="ff0000"/>
                </a:solidFill>
                <a:latin typeface="Comic Sans MS"/>
              </a:rPr>
              <a:t>Write a list in your book. Share with neighbour and add  to your li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8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advertiser will have a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ARGET AUDIENCE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..the one that it is aiming its product at and it has to be convinced that this magazine will be reaching the largest target 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Measuring audience..</a:t>
            </a:r>
            <a:br>
              <a:rPr sz="3600"/>
            </a:b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Here are some things demographic profiles inclu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pending power…different types of households eg professionals, unemployed, retiree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6-10-09T07:54:36Z</dcterms:modified>
  <cp:revision>4</cp:revision>
  <dc:subject/>
  <dc:title>Audiences</dc:title>
</cp:coreProperties>
</file>