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AFB-73C9-4321-9665-E71C23A5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ADE-9F71-4154-B404-FA452D1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C7A-4358-4B6B-9A0F-C7F73ADA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14A-5AF5-4CFE-88FE-B99989B6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C75A-6962-4EBD-A78F-59652427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338C-5E6E-4C04-8B6E-54B8EF1E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5795-8613-4501-8A67-FFA4E470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D502-1A1B-4E3E-9703-D10D6BC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97C-D50A-4680-A38E-2AAB5645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662C-5D16-478E-9810-096210A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E763-497B-4D73-BA41-3905AB4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F51-5406-4E4C-8AFB-7FBBC1B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816-7D60-4976-9F00-E66A7E5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C8C-9932-4B73-9D1B-A6E5ABB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3F38-DA93-4092-9B02-3762BAB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B98-BDD0-45DD-B4A3-4EB665BB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ABF2-EE73-48ED-A9BB-66F1448E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74D-8A95-4D0E-A05F-66F1A3EF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B12-363A-4E8A-A94D-68015E6D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469-C494-4F29-82D9-C66384A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AE9-649D-4B8D-B964-D4BCE78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715-F7AB-4D38-8934-6AB4AF0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2B8-18DA-431F-A860-0D5ED16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069-2E03-44FD-B606-DA47A12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D08-E323-4E54-8231-01C946B31859}" type="slidenum"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CFE-B41F-4ED0-8AB2-E4E071A16DA6}" type="slidenum"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Importance of Media Audienc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Measuring audience..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Demographic profi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TAG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 Target Audience Group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Used by ACNeilsen,  a company that gathers information on audie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Groups are based on information on lifestyle, attitude and media consum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se are called Psychographic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C Nielsen Surveys 12,000 people aged 10+ each year to create these prof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4563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A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.7 different grou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iberal Sophisticates – 12% of the 10+ popu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Young Hopefuls – 1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Affluent Acquirers – 7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ruggling Young Families – 12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Comfortable Full Nesters – 10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Settled Seniors – 13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Lonely and Dissatisfied – 18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Next Generation – 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4563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0000"/>
                </a:solidFill>
                <a:latin typeface="Comic Sans MS"/>
              </a:rPr>
              <a:t>Demographic Profile Questionna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demographic profile questionnaire that you think AC Nielsen would use to find out information about consum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must have at least 10 questions on it  eg What is your level of educ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Relationship between Audience and Media Produ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media audienc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s the group of people who purchase a media produ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 is the group that the producers are aiming their magazine or TV show 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y are important because without an audience a media product would not sell and so would not make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629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New Zealand has a population of 4 mill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New Zealand media industry has a population made up of over 6,000 magazine titles – 650 locally publish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pproximately 300 cinema screens, 200 radio stations, 45 television channels, over 100 metropolitan and community newspap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 advertising expenditure of approximately NZ$1.5 billion annuall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agaz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agazin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readership is important because this determines how much they can charge advertisers …….the greater the readership the more they can charge per advertisemen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gazines make money from the advertising NOT the price you pay for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694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dvertisers are also interested in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f audience that the magazine attracts. This information is called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EMOGRAPHIC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of an audi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 groups brainstorm all the different ways you could divide up the New Zealand population eg gender (Male/ Fema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694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.so they will know which are the best magazines to advertise in to attract buyers of their produ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990720"/>
            <a:ext cx="633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Y do ADVERTISERS want to know details about the people who read magaz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azine producers gather lots of information on their audiences so they can try and convince the advertisers to place ads in their magaz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ort of inform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do you think advertisers and magazine producers would like to know about their audiences?  </a:t>
            </a:r>
            <a:r>
              <a:rPr b="0" i="1" lang="en-NZ" sz="3200" spc="-1" strike="noStrike">
                <a:solidFill>
                  <a:srgbClr val="ff0000"/>
                </a:solidFill>
                <a:latin typeface="Comic Sans MS"/>
              </a:rPr>
              <a:t>Write a list in your book. Share with neighbour and add  to your li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advertiser will have a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RGET AUDIENC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.the one that it is aiming its product at and it has to be convinced that this magazine will be reaching the largest target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Measuring audience..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Here are some things demographic profiles inclu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pending power…different types of households eg professionals, unemployed, retiree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6-10-09T07:54:36Z</dcterms:modified>
  <cp:revision>4</cp:revision>
  <dc:subject/>
  <dc:title>Audiences</dc:title>
</cp:coreProperties>
</file>