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D1F2B5-7C99-426A-86AB-9605D33D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095810-B443-4062-8812-100095E5D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C25253-E50D-499F-8B80-CF67FB6AC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A51E04-CE79-416F-8672-75417B44A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F632F-E9AC-49BD-92A3-DAFEE4927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6B0E-F2E7-423C-8E2E-9981171A9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A2E1-8325-4E75-81CA-5671AE3D8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181B1-B07E-47FA-841B-DD0DEA8D4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91B6E-8909-452F-8CE2-3B72EF93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E7917-08F8-4FF5-B19C-09BE9A1BD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8400E-1397-4940-AD6E-B15FD08D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8F8B8E-1833-4192-A3FF-C4C77D472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9463E-7B6F-4A18-9D65-729C96F2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D784-3D74-4B2F-BB11-4C73E1136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1E50B-D46D-4C5C-9E91-E8D8E4A77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167C8-CE5B-487F-BE61-74FAE6150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CEED5-FAC0-4522-87F7-A8D5A3994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1B9F2B-ABD3-421B-946C-F6E0D87AE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1E6B0-FE05-4DDD-B728-3EF63B048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2E043-C4C3-4BD9-B914-975765699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7B5A4-0E06-4F5D-835B-212BD7A0B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8A623-C10D-4F86-A2E3-9D2B64A0B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A9E8D-97CE-4F86-BE58-079C44669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9ACAD-DF14-4717-B599-CFAB8FB75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76D00-1F7B-4896-8283-290F92D31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61E1-E7D3-4F4B-B58F-D2C2DE957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25C13-D0E6-4357-900E-8D5124E9D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C815B-D3BF-4C2C-8D9C-6F5D7BB48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F30662-2398-441E-8E38-A2CDBED8C2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19B90-A25A-4E5F-9D34-FA1A164921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41E59D-A379-4E9B-8317-94727D15C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A16552-0B0F-4001-B15F-BA6651FD6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54497C-371F-4B0A-999E-41E24ABB5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694A1-52C9-4B5C-8F4F-5D9C547F8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C6687-F016-47E6-91CA-EE7E14DA4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07792-AFEB-4178-BD77-8147A60FE1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CF96-005B-44A5-B02B-3582A61195B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5FB6-3B6D-4E63-9319-35FF8587249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E04F-21FA-4761-9EA6-C54AA66D6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IsEw9b7HeUc" TargetMode="Externa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uQTpVxCghXk&amp;mode=related&amp;search=" TargetMode="External"/><Relationship Id="rId2" Type="http://schemas.openxmlformats.org/officeDocument/2006/relationships/hyperlink" Target="http://www.youtube.com/watch?v=uQTpVxCghXk&amp;mode=related&amp;search=" TargetMode="External"/><Relationship Id="rId3" Type="http://schemas.openxmlformats.org/officeDocument/2006/relationships/hyperlink" Target="http://www.youtube.com/watch?v=uQTpVxCghXk&amp;mode=related&amp;search=" TargetMode="External"/><Relationship Id="rId4" Type="http://schemas.openxmlformats.org/officeDocument/2006/relationships/hyperlink" Target="http://www.youtube.com/watch?v=uQTpVxCghXk&amp;mode=related&amp;search=" TargetMode="External"/><Relationship Id="rId5" Type="http://schemas.openxmlformats.org/officeDocument/2006/relationships/hyperlink" Target="http://www.youtube.com/watch?v=uQTpVxCghXk&amp;mode=related&amp;search=" TargetMode="External"/><Relationship Id="rId6"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qOfXGrI26Eg"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rPr>
              <a:t>Visions of the beast: the changing shape of horror movies </a:t>
            </a:r>
            <a:endParaRPr b="1" lang="en-US" sz="4800" spc="-1" strike="noStrike">
              <a:solidFill>
                <a:srgbClr val="ffffcc"/>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Waika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2007 …</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horrifies u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re do monsters lurk?</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o films express or mirror our fears and anxietie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 horror, in horror films, something different from what it used to b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Invasion of the Body Snatchers </a:t>
            </a:r>
            <a:r>
              <a:rPr b="0" lang="en-US" sz="4400" spc="-1" strike="noStrike">
                <a:solidFill>
                  <a:srgbClr val="000000"/>
                </a:solidFill>
                <a:latin typeface="Times New Roman"/>
              </a:rPr>
              <a:t>(1956, Don Siegel)</a:t>
            </a:r>
            <a:endParaRPr b="0" lang="en-US" sz="4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IsEw9b7HeUc</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interpreted as an allegory for ‘Red scares’ and mass hysteria generated by Joseph McCarthy in the USA in the early 1950s, and the general social and political conformity which prevailed through those years--when the majority of the population consented to a narrow set of beliefs and values, which needed to be protected from external threats (communis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ely (and less frequently), the pods are read as the ‘virus’ of communism, taking over free will and individual identity (</a:t>
            </a:r>
            <a:r>
              <a:rPr b="0" i="1" lang="en-US" sz="2000" spc="-1" strike="noStrike">
                <a:solidFill>
                  <a:srgbClr val="000000"/>
                </a:solidFill>
                <a:latin typeface="Times New Roman"/>
              </a:rPr>
              <a:t>You’re</a:t>
            </a:r>
            <a:r>
              <a:rPr b="0" lang="en-US" sz="2000" spc="-1" strike="noStrike">
                <a:solidFill>
                  <a:srgbClr val="000000"/>
                </a:solidFill>
                <a:latin typeface="Times New Roman"/>
              </a:rPr>
              <a:t> </a:t>
            </a:r>
            <a:r>
              <a:rPr b="0" i="1" lang="en-US" sz="2000" spc="-1" strike="noStrike">
                <a:solidFill>
                  <a:srgbClr val="000000"/>
                </a:solidFill>
                <a:latin typeface="Times New Roman"/>
              </a:rPr>
              <a:t>next!)</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2)</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Invasion of the Body Snatchers</a:t>
            </a:r>
            <a:r>
              <a:rPr b="0" lang="en-US" sz="4000" spc="-1" strike="noStrike">
                <a:solidFill>
                  <a:srgbClr val="000000"/>
                </a:solidFill>
                <a:latin typeface="Times New Roman"/>
              </a:rPr>
              <a:t> (1978, Philip Kaufman)</a:t>
            </a:r>
            <a:endParaRPr b="0" lang="en-US" sz="4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a:t>
            </a:r>
            <a:r>
              <a:rPr b="0" lang="en-US" sz="2800" spc="-1" strike="noStrike" u="sng">
                <a:solidFill>
                  <a:srgbClr val="009999"/>
                </a:solidFill>
                <a:uFillTx/>
                <a:latin typeface="Times New Roman"/>
                <a:hlinkClick r:id="rId2"/>
              </a:rPr>
              <a:t>youtube</a:t>
            </a:r>
            <a:r>
              <a:rPr b="0" lang="en-US" sz="2800" spc="-1" strike="noStrike" u="sng">
                <a:solidFill>
                  <a:srgbClr val="009999"/>
                </a:solidFill>
                <a:uFillTx/>
                <a:latin typeface="Times New Roman"/>
                <a:hlinkClick r:id="rId3"/>
              </a:rPr>
              <a:t>.com/watch?v=</a:t>
            </a:r>
            <a:r>
              <a:rPr b="0" lang="en-US" sz="2800" spc="-1" strike="noStrike" u="sng">
                <a:solidFill>
                  <a:srgbClr val="009999"/>
                </a:solidFill>
                <a:uFillTx/>
                <a:latin typeface="Times New Roman"/>
                <a:hlinkClick r:id="rId4"/>
              </a:rPr>
              <a:t>uQTpVxCghXk</a:t>
            </a:r>
            <a:r>
              <a:rPr b="0" lang="en-US" sz="2800" spc="-1" strike="noStrike" u="sng">
                <a:solidFill>
                  <a:srgbClr val="009999"/>
                </a:solidFill>
                <a:uFillTx/>
                <a:latin typeface="Times New Roman"/>
                <a:hlinkClick r:id="rId5"/>
              </a:rPr>
              <a:t>&amp;mode=related&amp;search=</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read as an allegory for the 1970s obsession with self-improvement and self-help (a peculiarly American--or Californian--trait?). Leonard Nimoy (cf. Spock) plays a popular self-help guru  who initially dismisses fears about the alien duplication, then endorses the invasion.   The setting shifts from small town California to San Francisco. There is a prevailing sense of post-Vietnam War paranoia (anti-government fears; conspiracy theories), as well as an inconclusive (pessimistic?) ending. The alien-pods are seen in their sticky, horrific forms and they possess new powers  eg shrill screams to alert others to the presence of non-duplicated human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ou’ll never close your eyes again</a:t>
            </a:r>
            <a:r>
              <a:rPr b="0" lang="en-US" sz="1800" spc="-1" strike="noStrike">
                <a:solidFill>
                  <a:srgbClr val="000000"/>
                </a:solidFill>
                <a:latin typeface="Times New Roman"/>
              </a:rPr>
              <a:t>, Pauline Kael, renowned US film criti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3)</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Invasion </a:t>
            </a:r>
            <a:r>
              <a:rPr b="0" lang="en-US" sz="4000" spc="-1" strike="noStrike">
                <a:solidFill>
                  <a:srgbClr val="000000"/>
                </a:solidFill>
                <a:latin typeface="Times New Roman"/>
              </a:rPr>
              <a:t>(2007, Oliver Hirschbiegel)</a:t>
            </a:r>
            <a:endParaRPr b="0" lang="en-US" sz="40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qOfXGrI26Eg</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test re-make. A star vehicle for Nicole Kidman, who plays a psychiatrist (cf female protagonist;  Scientology). The story begins with a space shuttle crash; the crash site is contaminated by alien microorganisms. In a rather confusing narrative, the alien/humans are instrumental is stopping wars around the world (</a:t>
            </a:r>
            <a:r>
              <a:rPr b="0" i="1" lang="en-US" sz="1800" spc="-1" strike="noStrike">
                <a:solidFill>
                  <a:srgbClr val="000000"/>
                </a:solidFill>
                <a:latin typeface="Times New Roman"/>
              </a:rPr>
              <a:t>Darfur Ceasefire). </a:t>
            </a:r>
            <a:r>
              <a:rPr b="0" lang="en-US" sz="1800" spc="-1" strike="noStrike">
                <a:solidFill>
                  <a:srgbClr val="000000"/>
                </a:solidFill>
                <a:latin typeface="Times New Roman"/>
              </a:rPr>
              <a:t>The central premise of the film appears to be: What makes for a better world--one with war and independent thought, or a peaceful one where everyone is part of single, unified mind-se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lm has not be well-received by critics eg ..</a:t>
            </a:r>
            <a:r>
              <a:rPr b="0" i="1" lang="en-US" sz="1800" spc="-1" strike="noStrike">
                <a:solidFill>
                  <a:srgbClr val="000000"/>
                </a:solidFill>
                <a:latin typeface="Times New Roman"/>
              </a:rPr>
              <a:t>The Invasion ranks as one of the</a:t>
            </a:r>
            <a:r>
              <a:rPr b="0" lang="en-US" sz="1800" spc="-1" strike="noStrike">
                <a:solidFill>
                  <a:srgbClr val="000000"/>
                </a:solidFill>
                <a:latin typeface="Times New Roman"/>
              </a:rPr>
              <a:t> </a:t>
            </a:r>
            <a:r>
              <a:rPr b="0" i="1" lang="en-US" sz="1800" spc="-1" strike="noStrike">
                <a:solidFill>
                  <a:srgbClr val="000000"/>
                </a:solidFill>
                <a:latin typeface="Times New Roman"/>
              </a:rPr>
              <a:t>most misguided and ultimately terrible genre films in years</a:t>
            </a:r>
            <a:r>
              <a:rPr b="0" lang="en-US" sz="1800" spc="-1" strike="noStrike">
                <a:solidFill>
                  <a:srgbClr val="000000"/>
                </a:solidFill>
                <a:latin typeface="Times New Roman"/>
              </a:rPr>
              <a:t> (www.bloody-disgusting.com/news/8824)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or sci-fi?</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ror films should attempt to horrify their audiences. If they don’t, they’re not horror…it’s simply nonsense to claim that genres possess clear, stable and identifiable boundaries</a:t>
            </a:r>
            <a:r>
              <a:rPr b="0" i="1" lang="en-US" sz="3200" spc="-1" strike="noStrike">
                <a:solidFill>
                  <a:srgbClr val="000000"/>
                </a:solidFill>
                <a:latin typeface="Times New Roman"/>
              </a:rPr>
              <a:t>. </a:t>
            </a:r>
            <a:r>
              <a:rPr b="0" lang="en-US" sz="2000" spc="-1" strike="noStrike">
                <a:solidFill>
                  <a:srgbClr val="000000"/>
                </a:solidFill>
                <a:latin typeface="Times New Roman"/>
              </a:rPr>
              <a:t>R. McInnes, ‘Genre is dead--long live genre’, </a:t>
            </a:r>
            <a:r>
              <a:rPr b="0" i="1" lang="en-US" sz="2000" spc="-1" strike="noStrike">
                <a:solidFill>
                  <a:srgbClr val="000000"/>
                </a:solidFill>
                <a:latin typeface="Times New Roman"/>
              </a:rPr>
              <a:t>MediaMagazine</a:t>
            </a:r>
            <a:r>
              <a:rPr b="0" lang="en-US" sz="2000" spc="-1" strike="noStrike">
                <a:solidFill>
                  <a:srgbClr val="000000"/>
                </a:solidFill>
                <a:latin typeface="Times New Roman"/>
              </a:rPr>
              <a:t> no. 11 Feb 2005</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horror films aims at psychological effects; the science fiction film at logical possibilitie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 Soloman (1976), </a:t>
            </a:r>
            <a:r>
              <a:rPr b="0" i="1" lang="en-US" sz="2000" spc="-1" strike="noStrike">
                <a:solidFill>
                  <a:srgbClr val="000000"/>
                </a:solidFill>
                <a:latin typeface="Times New Roman"/>
              </a:rPr>
              <a:t>Beyond Formula: American Film Gen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e Invasion of the Body Snatchers</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t>
            </a:r>
            <a:r>
              <a:rPr b="1" lang="en-US" sz="2800" spc="-1" strike="noStrike">
                <a:solidFill>
                  <a:srgbClr val="000000"/>
                </a:solidFill>
                <a:latin typeface="Times New Roman"/>
              </a:rPr>
              <a:t>both</a:t>
            </a:r>
            <a:r>
              <a:rPr b="0" lang="en-US" sz="2800" spc="-1" strike="noStrike">
                <a:solidFill>
                  <a:srgbClr val="000000"/>
                </a:solidFill>
                <a:latin typeface="Times New Roman"/>
              </a:rPr>
              <a:t> horror and sci-fi (combinant or cross-genre film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a:r>
            <a:r>
              <a:rPr b="1" lang="en-US" sz="2800" spc="-1" strike="noStrike">
                <a:solidFill>
                  <a:srgbClr val="000000"/>
                </a:solidFill>
                <a:latin typeface="Times New Roman"/>
              </a:rPr>
              <a:t>sci-fi</a:t>
            </a:r>
            <a:r>
              <a:rPr b="0" lang="en-US" sz="2800" spc="-1" strike="noStrike">
                <a:solidFill>
                  <a:srgbClr val="000000"/>
                </a:solidFill>
                <a:latin typeface="Times New Roman"/>
              </a:rPr>
              <a:t> elements: the threat or contagion (</a:t>
            </a:r>
            <a:r>
              <a:rPr b="0" i="1" lang="en-US" sz="2800" spc="-1" strike="noStrike">
                <a:solidFill>
                  <a:srgbClr val="000000"/>
                </a:solidFill>
                <a:latin typeface="Times New Roman"/>
              </a:rPr>
              <a:t>spores</a:t>
            </a:r>
            <a:r>
              <a:rPr b="0" lang="en-US" sz="2800" spc="-1" strike="noStrike">
                <a:solidFill>
                  <a:srgbClr val="000000"/>
                </a:solidFill>
                <a:latin typeface="Times New Roman"/>
              </a:rPr>
              <a:t>) from outer spa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ore numerous </a:t>
            </a:r>
            <a:r>
              <a:rPr b="1" lang="en-US" sz="2800" spc="-1" strike="noStrike">
                <a:solidFill>
                  <a:srgbClr val="000000"/>
                </a:solidFill>
                <a:latin typeface="Times New Roman"/>
              </a:rPr>
              <a:t>horror</a:t>
            </a:r>
            <a:r>
              <a:rPr b="0" lang="en-US" sz="2800" spc="-1" strike="noStrike">
                <a:solidFill>
                  <a:srgbClr val="000000"/>
                </a:solidFill>
                <a:latin typeface="Times New Roman"/>
              </a:rPr>
              <a:t> ele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ession or de-humanisation; inexplicable horror; people turning into zombies (monsters?); allegories of larger, external anxie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se films illustrate changes which are a consequence of …</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nature of genre film (the development of cross-genre or ‘hybrid’ genres; more graphic SF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expressions of representation eg gender roles; the place of the individual in socie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social norms eg  attitudes to the portrayal of sex and viol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source of fictionalised horror (the monster is now </a:t>
            </a:r>
            <a:r>
              <a:rPr b="0" i="1" lang="en-US" sz="2800" spc="-1" strike="noStrike">
                <a:solidFill>
                  <a:srgbClr val="000000"/>
                </a:solidFill>
                <a:latin typeface="Times New Roman"/>
              </a:rPr>
              <a:t>u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Invasion of the Body Snatche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pping into themes of individualism and conformity, personal freedom and social control, the idea of soulless ‘pod people’ has become an all-encompassing metaphor that finds a sociopolitical relevance whatever the period. The Invasion films add up to a veritable catalog of anxieties that have plagued the American psyche in the last half-century. </a:t>
            </a:r>
            <a:r>
              <a:rPr b="0" lang="en-US" sz="1800" spc="-1" strike="noStrike">
                <a:solidFill>
                  <a:srgbClr val="000000"/>
                </a:solidFill>
                <a:latin typeface="Times New Roman"/>
              </a:rPr>
              <a:t>D. Lim(2007), Same Old Aliens, but New Neuroses, </a:t>
            </a:r>
            <a:r>
              <a:rPr b="0" i="1" lang="en-US" sz="1800" spc="-1" strike="noStrike">
                <a:solidFill>
                  <a:srgbClr val="000000"/>
                </a:solidFill>
                <a:latin typeface="Times New Roman"/>
              </a:rPr>
              <a:t>New York Times</a:t>
            </a:r>
            <a:r>
              <a:rPr b="0" lang="en-US" sz="1800" spc="-1" strike="noStrike">
                <a:solidFill>
                  <a:srgbClr val="000000"/>
                </a:solidFill>
                <a:latin typeface="Times New Roman"/>
              </a:rPr>
              <a:t> 12/8/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h a </a:t>
            </a:r>
            <a:r>
              <a:rPr b="0" i="1" lang="en-US" sz="3600" spc="-1" strike="noStrike">
                <a:solidFill>
                  <a:srgbClr val="000000"/>
                </a:solidFill>
                <a:latin typeface="Times New Roman"/>
              </a:rPr>
              <a:t>catalog of anxieties</a:t>
            </a:r>
            <a:endParaRPr b="0" lang="en-US" sz="3600" spc="-1" strike="noStrike">
              <a:solidFill>
                <a:srgbClr val="000000"/>
              </a:solidFill>
              <a:latin typeface="Times New Roman"/>
            </a:endParaRPr>
          </a:p>
        </p:txBody>
      </p:sp>
      <p:sp>
        <p:nvSpPr>
          <p:cNvPr id="203"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ht well inclu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ew pandemics to terror threats to extreme makeovers and genetic engineering </a:t>
            </a:r>
            <a:r>
              <a:rPr b="0" lang="en-US" sz="2800" spc="-1" strike="noStrike">
                <a:solidFill>
                  <a:srgbClr val="000000"/>
                </a:solidFill>
                <a:latin typeface="Times New Roman"/>
              </a:rPr>
              <a:t>(Lim,</a:t>
            </a:r>
            <a:r>
              <a:rPr b="0" i="1" lang="en-US" sz="2800" spc="-1" strike="noStrike">
                <a:solidFill>
                  <a:srgbClr val="000000"/>
                </a:solidFill>
                <a:latin typeface="Times New Roman"/>
              </a:rPr>
              <a:t> NY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ats to civil liberties and personal securit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degradation and dwindling natural resources (the end of life as we know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ld increasingly out of control (cyclones; the melting polar ice ca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ce of real-life ‘monsters’ (racial genocide, serial murderers, cannibal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752480"/>
            <a:ext cx="784872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horror, in its fictional representations in film and literature, has changed dramatically over the decades. The ‘beast’ or ‘monster’ is no longer tangible nor readily visible (such Frankenstein’s Monster or Dracula were); they are now more frequently invisible (a virus) or hidden (in some cave, somewhere) or just plain ordinary (such as the guy with shifty eyes sitting next to us on a plane!) Nevertheless truly effective form of horror still reflect our ambivalent or mixed feelings about monsters--think of Hannibal Lector or Tony Sopra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presentation is aligned to…</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NCEA Media Studies U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468 </a:t>
            </a:r>
            <a:r>
              <a:rPr b="0" i="1" lang="en-US" sz="3200" spc="-1" strike="noStrike">
                <a:solidFill>
                  <a:srgbClr val="000000"/>
                </a:solidFill>
                <a:latin typeface="Times New Roman"/>
              </a:rPr>
              <a:t>Describe the history of a genre and explore its present role in socie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CEA Media Studies 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602 </a:t>
            </a:r>
            <a:r>
              <a:rPr b="0" i="1" lang="en-US" sz="3200" spc="-1" strike="noStrike">
                <a:solidFill>
                  <a:srgbClr val="000000"/>
                </a:solidFill>
                <a:latin typeface="Times New Roman"/>
              </a:rPr>
              <a:t>Explore the relationship between a media genre and societ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However lowly in the grand scheme, horror films are best viewed as unsavoury lab experiments on public anxiety … measured by the degree to which it evokes and probes the normally secreted collective angst, in upsetting images and disquieting concept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Michael Atkinson,</a:t>
            </a:r>
            <a:r>
              <a:rPr b="0" i="1" lang="en-US" sz="3600" spc="-1" strike="noStrike">
                <a:solidFill>
                  <a:srgbClr val="000000"/>
                </a:solidFill>
                <a:latin typeface="Times New Roman"/>
              </a:rPr>
              <a:t> Sight &amp; Sound </a:t>
            </a: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Sept 2007, p. 5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ceding quote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s from a review of the film </a:t>
            </a:r>
            <a:r>
              <a:rPr b="0" i="1" lang="en-US" sz="3200" spc="-1" strike="noStrike">
                <a:solidFill>
                  <a:srgbClr val="000000"/>
                </a:solidFill>
                <a:latin typeface="Times New Roman"/>
              </a:rPr>
              <a:t>1408, </a:t>
            </a:r>
            <a:r>
              <a:rPr b="0" lang="en-US" sz="3200" spc="-1" strike="noStrike">
                <a:solidFill>
                  <a:srgbClr val="000000"/>
                </a:solidFill>
                <a:latin typeface="Times New Roman"/>
              </a:rPr>
              <a:t>released in 2007 and starring John Cusack and Samuel L. Jackson as ‘the newest launch from Stephen King Corp”.</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mise of the film is that Room 1408 at the Dolphin Hotel in Manhattan is haunted by poltergeists and ghosts--which may be manifestations</a:t>
            </a:r>
            <a:r>
              <a:rPr b="0" lang="en-US" sz="3200" spc="-1" strike="noStrike">
                <a:solidFill>
                  <a:srgbClr val="000000"/>
                </a:solidFill>
                <a:latin typeface="Times New Roman"/>
              </a:rPr>
              <a:t> </a:t>
            </a:r>
            <a:r>
              <a:rPr b="0" lang="en-US" sz="2400" spc="-1" strike="noStrike">
                <a:solidFill>
                  <a:srgbClr val="000000"/>
                </a:solidFill>
                <a:latin typeface="Times New Roman"/>
              </a:rPr>
              <a:t>of failed writer Mike Enslin’s (Cusack) uncertain grasp on reality. The room seems out to kill him</a:t>
            </a:r>
            <a:r>
              <a:rPr b="0" i="1" lang="en-US" sz="2400" spc="-1" strike="noStrike">
                <a:solidFill>
                  <a:srgbClr val="000000"/>
                </a:solidFill>
                <a:latin typeface="Times New Roman"/>
              </a:rPr>
              <a:t>.  </a:t>
            </a:r>
            <a:r>
              <a:rPr b="0" lang="en-US" sz="2400" spc="-1" strike="noStrike">
                <a:solidFill>
                  <a:srgbClr val="000000"/>
                </a:solidFill>
                <a:latin typeface="Times New Roman"/>
              </a:rPr>
              <a:t>It is</a:t>
            </a:r>
            <a:r>
              <a:rPr b="0" i="1" lang="en-US" sz="2400" spc="-1" strike="noStrike">
                <a:solidFill>
                  <a:srgbClr val="000000"/>
                </a:solidFill>
                <a:latin typeface="Times New Roman"/>
              </a:rPr>
              <a:t> monstrous </a:t>
            </a:r>
            <a:r>
              <a:rPr b="0" lang="en-US" sz="2400" spc="-1" strike="noStrike">
                <a:solidFill>
                  <a:srgbClr val="000000"/>
                </a:solidFill>
                <a:latin typeface="Times New Roman"/>
              </a:rPr>
              <a:t>and</a:t>
            </a:r>
            <a:r>
              <a:rPr b="0" i="1" lang="en-US" sz="2400" spc="-1" strike="noStrike">
                <a:solidFill>
                  <a:srgbClr val="000000"/>
                </a:solidFill>
                <a:latin typeface="Times New Roman"/>
              </a:rPr>
              <a:t> horrifi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otel room …</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ght to be a safe and certain haven--’a home away from home’?  An anonymous refuge from the unsettling C21st century world beyond the </a:t>
            </a:r>
            <a:r>
              <a:rPr b="0" i="1" lang="en-US" sz="2800" spc="-1" strike="noStrike">
                <a:solidFill>
                  <a:srgbClr val="000000"/>
                </a:solidFill>
                <a:latin typeface="Times New Roman"/>
              </a:rPr>
              <a:t>Do Not Disturb</a:t>
            </a:r>
            <a:r>
              <a:rPr b="0" lang="en-US" sz="2800" spc="-1" strike="noStrike">
                <a:solidFill>
                  <a:srgbClr val="000000"/>
                </a:solidFill>
                <a:latin typeface="Times New Roman"/>
              </a:rPr>
              <a:t> sig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ely, can hotel rooms also be places of secrets and sin? A place for fantasies, beyond the public or domestic gaze. Places where strangers meet, secrets are exchanged, violence and horror planned or executed (cf. Bates Motel on </a:t>
            </a:r>
            <a:r>
              <a:rPr b="0" i="1" lang="en-US" sz="2800" spc="-1" strike="noStrike">
                <a:solidFill>
                  <a:srgbClr val="000000"/>
                </a:solidFill>
                <a:latin typeface="Times New Roman"/>
              </a:rPr>
              <a:t>Psych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films as genre</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n horror films generally, the mechanism of disruption, the monster, produces increasing disorder until by its death a form of order is finally restored…What a genre provides is cohere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Robertson, ‘The narrative sources of Ridley Scott’s </a:t>
            </a:r>
            <a:r>
              <a:rPr b="0" i="1" lang="en-US" sz="2400" spc="-1" strike="noStrike">
                <a:solidFill>
                  <a:srgbClr val="000000"/>
                </a:solidFill>
                <a:latin typeface="Times New Roman"/>
              </a:rPr>
              <a:t>Alien</a:t>
            </a:r>
            <a:r>
              <a:rPr b="0" lang="en-US" sz="2400" spc="-1" strike="noStrike">
                <a:solidFill>
                  <a:srgbClr val="000000"/>
                </a:solidFill>
                <a:latin typeface="Times New Roman"/>
              </a:rPr>
              <a:t>, in Orr &amp; Nicolson (1992)</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 (generally)</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nre is what we collectively believe it to b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Barry K. Gra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nre films essentially ask the audience, ‘Do you still want to believe th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3600" spc="-1" strike="noStrike">
                <a:solidFill>
                  <a:srgbClr val="000000"/>
                </a:solidFill>
                <a:latin typeface="Times New Roman"/>
              </a:rPr>
              <a:t>Leo Braud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1)</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ror is the feeling of revulsion that usually occurs after something frightening is seen, heard or otherwise experienced. It is the feeling one gets after coming to an awful realisation or experiencing a hideous revelation.  w</a:t>
            </a:r>
            <a:r>
              <a:rPr b="0" lang="en-US" sz="2800" spc="-1" strike="noStrike">
                <a:solidFill>
                  <a:srgbClr val="000000"/>
                </a:solidFill>
                <a:latin typeface="Times New Roman"/>
              </a:rPr>
              <a:t>ikiped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erience as varied as seeing footage of massacres in Rwanda, </a:t>
            </a:r>
            <a:r>
              <a:rPr b="0" i="1" lang="en-US" sz="2800" spc="-1" strike="noStrike">
                <a:solidFill>
                  <a:srgbClr val="000000"/>
                </a:solidFill>
                <a:latin typeface="Times New Roman"/>
              </a:rPr>
              <a:t>Saw II .</a:t>
            </a:r>
            <a:r>
              <a:rPr b="0" lang="en-US" sz="2800" spc="-1" strike="noStrike">
                <a:solidFill>
                  <a:srgbClr val="000000"/>
                </a:solidFill>
                <a:latin typeface="Times New Roman"/>
              </a:rPr>
              <a:t>.. or the final moments of the France vs New Zealand quarter- final in the RW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2)</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rror is any film that gives me the willies. Willies is a very technical term.</a:t>
            </a:r>
            <a:endParaRPr b="0" lang="en-US" sz="4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hoottheprojectionist.com/2007/09/31-flicks-that-give-you-willies-more.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3:01:18Z</dcterms:created>
  <dc:creator>Geoff Lealand</dc:creator>
  <dc:description/>
  <dc:language>en-US</dc:language>
  <cp:lastModifiedBy>Geoff Lealand</cp:lastModifiedBy>
  <cp:lastPrinted>2007-10-23T00:33:42Z</cp:lastPrinted>
  <dcterms:modified xsi:type="dcterms:W3CDTF">2007-10-23T00:33:49Z</dcterms:modified>
  <cp:revision>12</cp:revision>
  <dc:subject/>
  <dc:title>Visions of the beast: the changing shape of horror movies </dc:title>
</cp:coreProperties>
</file>