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D79-45D3-4263-A73F-6A46E81E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501-1249-4FC8-8257-75E9F108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C27-0B14-4F01-8DB6-19435C01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EFB-AA15-4178-8EF0-CEBAF1ED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2EE-0A5E-413C-A4BE-65634E10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3D7C-9329-4D20-B5D8-FBB33819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485A-574A-46A4-BE82-AABE705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F5AD-B919-4B73-ADB3-97EFE0FE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B451-6CBA-4171-907E-5CAE481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F79F-ED1D-4F29-BC62-E325CD76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256F-34DA-4B42-BC1B-0AA2CFE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B79-EAE0-4A09-A152-C5E8EB6C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F2D7-C939-4DBD-AEC1-E8257273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82EA-91CD-4285-A270-406CC76C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5759-76FB-475E-AEAD-0A444E0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2D61-A642-43C3-82AB-AABC7581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E89D-4B6D-41D5-90C1-A8744346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452E-8864-463E-90AE-B92BA53A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0A4A-C541-4E17-AE54-2AFB1493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D1D1-D13F-4C89-930D-E484795E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6981-E59A-4D10-9336-141B285B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5B0F-9724-4AD6-B083-E7B2C9CB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9F4-5EEB-4351-BD0E-BF4F9694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6397-F7A4-490B-AF95-D7611CE8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84C5-5397-4251-A064-8CF6AF6F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A042-C13B-415C-8094-744FBA28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9979-4E6E-4628-B2A5-5318722A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E500-C642-4042-8514-FB781224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76FF-0AA3-4DB7-902C-081EAEBD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38B3-328B-4227-AE28-1C278C0B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A1B-D974-4488-AE40-EF3F5C7F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1F7-8CF1-4D63-B28B-BA008301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E06-B60D-4B12-A245-59C3248D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99D-9D20-4AA9-A9DF-3C86028F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EB7-BE4F-4DEE-BD45-185DEFB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727-6B41-48BB-A931-5057DB4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79BC-6116-43C3-9FC5-6D3F0A60B81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BFCB-5776-427D-89CB-C537BF56F83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11DE-AE69-4741-965D-965E84234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vhandbook.com.History/History_timeline.htm" TargetMode="External"/><Relationship Id="rId2" Type="http://schemas.openxmlformats.org/officeDocument/2006/relationships/hyperlink" Target="http://www.tvhandbook.com.History/History_timeline.htm" TargetMode="External"/><Relationship Id="rId3" Type="http://schemas.openxmlformats.org/officeDocument/2006/relationships/hyperlink" Target="http://inventors.about.com/library/inventors/bl_television_timeline.htm" TargetMode="External"/><Relationship Id="rId4" Type="http://schemas.openxmlformats.org/officeDocument/2006/relationships/hyperlink" Target="http://inventors.about.com/library/inventors/bl_television_timeline.htm" TargetMode="External"/><Relationship Id="rId5" Type="http://schemas.openxmlformats.org/officeDocument/2006/relationships/hyperlink" Target="http://corporate.tvnz.co.nz/tvnz_detail/0,22406,111544-247-252,00.html" TargetMode="External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MST216-08B Lecture 2 (Week 30)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rt I: The History of Televis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 Short History of Television in New Zea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Grande"/>
              </a:rPr>
              <a:t>Geoff Lea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w Zealand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w out of state-owned radio; Television New Zealand remains state-owned television (currently a Crown-owned comp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beginning, there was a mix of public service broadcasting (fee) and commercial income (TV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vide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0 years of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of privately-owned channels (TV3) in 1988 and pay TV (Sky) in 199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3040" y="752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II: Television in New Zealand in 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in New Zealand, in 2008, remains a mix of public service objectives (a prime responsibility of Television New Zealand), and commercial interests (overseas-owned channels + pay TV ).  There are structures and processes unique to television in this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-top box, commercial-free digital service (Freeview) began in 2007, screening free-to-air channels, including TVNZ6 and TVNZ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vision New Zea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rowned-Owned Company (CROC), operating TV ONE and TV2 under the TVNZ Charter. The transmission service BCL is now operated separately, as Kor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ed primarily through advertising revenue (90%) + Charter funding from the Govt ($16m in 2005) +  programme subsidies through NZOA and Te Mangai Pa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7% share of the FTA audience (2007). Dominates ratings (esp TV O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s dividend on profits to Go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V3 and C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ity shareholder formerly CanWest Global Communications (Canada). 90% takeover by Australian private equity firm (Ironbridge Capital) in 2007. Financed through advertising + NZOA programme subsi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TV3 (FTA channel, with younger demographic) + C4 (music video + programming strands). 19% FTA audience share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CanWest also owns a large share of the NZ radio market (RadioWorks, Radio Pacific, More F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 T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ly owned and operated by Prime Networks Australia; purchased by Sky Network Television in 2005. Financed through advertising revenue. Up to 5% FTA audience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 uses Prime for FTA replays of the significant sporting fixtures it has exclusive rights to (rugb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ori Televis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-funded national channel,with a brief to preserve and promo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 reo Ma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 Launched June 2004, and attracts between 50-70% non-Maori viewers, broadcasting up to 8 hours dai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is 90% locally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channel Te reo launched in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y Network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TV service, providing 80+ channels of terrestrial + satellite digital service + radio channels.. 78% owned by Independent News Ltd (INL)* + 8% Commercial Bank of Australia. In 46% of NZ h/hs; subscribers=720,919, Dec 2007 ), After years on continuous losses, Sky made $35m profit in 2004. Currently 5% of income comes from advertising. 23%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Z television audience (2006); 19% share of 20-54 year olds (April 2008) Introduced PVR (personal video recorders) as MySky in  2006; currently adding HD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44% owned by Rupert Murdoch’s News Corpo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levisi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television eg NowTV, CTV (Christchurch), Nelson (Mainland TV). Channel 9 (Duned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television eg Triangle (Auckland and Wellingt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2005, some funding available from New Zealand On Air to regional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Agenci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Zealand On Ai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der Ministry of Culture and Herit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. 1989, with responsibilities for social and cultural objectives of broadcasting (radio + TV). Directly funded from Treasury ($127.5m in 2008/9; 64% allocated to funding TV programmes). Contestable funding, concentrated on ‘threatened’ or ‘non-commercial’genres (drama/comedy, children’s, documentaries).  Does not fund news/current affairs nor 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ing slot required to receive NZOA fun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Agenc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 Mangai Pah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under Te Puni Kokiri). Promotes Maori language and culture through providing funds for programming--primarily to Maori Television Service (more than $20m annually, with 50%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 reo Ma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rg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wo major strands of   television history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erican  history, concentrating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ntors and the development of television technology [vide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levision: Window to the Wor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itish history, concentrating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 of broadcasting institutions e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a Brigg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First 50 Years of the B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two general histories of television in NZ: Robert Boyd-Bell (1985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 Zealand Television: The First 25 Ye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rick Day (2000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oice &amp; Vision: A History of Broadcasting in New Zealan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lso Lealand &amp; Martin (2001) Chapter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77280" y="674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ulation Agenci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adcasting Standards Autho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under Ministry of Culture and Heritage) . Est. 1989. Govt-funded, complaints-based content regulator. Regulates radio and TV, through codes of broadcasting practice, developed in conjunction with industry. Deals with around 200 formal complaints annually (average upheld=21%). Conducts audience research (as does NZO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ulation Agenc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ertising Standards Autho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Industry-based, self-regulatory body responding to advertising complaints. Incorporates Advertising Standards Complaints Board and Advertising Standards Appeals Board (both with public memb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conclude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 avenues for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ding tele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rtising (buying airtime, sponsorship, naming righ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s or taxes (eg the former Public Broadcasting F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government funding eg MTS and NZOA in NZ; ABC in 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ing mixes (eg TVN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TV--pay service, channel sub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ner in which television is funded determines what kind of television eventu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rcial telev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 American networks NBC/ABC/CBS/Fox; Channels 7/9/10 in Australia; TV3/C4/Prime in N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ervice televi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 BBC, ABC (Australia), NHK (Japan), YLE (Finl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y T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g Foxtel (Australia), Sky (UK), Sky (N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xed systems (public funding + advertising) e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New Zea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NZ mode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effect channels are settling into three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omprises the major free-to-air national channels (TV One, TV2, TV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ype 2 consists of the smaller broad-service channels with mainly national reach (Prime, Maori Televi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NZ mode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 3 comprises channels broadcasting regionally and/or to special interest audiences, whether on UHF, Freeview or pay TV platforms (such as the 16 regional channels, C4, TVNZ6, TVNZ7, Juice TV, Stratos, Parliament TV, Alt T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ky TV subscription services collectively of course is a major competitor to the Type 1 channels in particular, but its individual channels mostly fall into Types 2 and 3, with the possible exception of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Zealand On Ai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tement of Intent 2008-1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ington: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uture of tele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Video Rec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VR) aka Digital Personal Video Recorder (DVR) or My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VR makes timeshifting much easier, can ‘pause’ live TV, provide instant replay, and 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ility to skip advertis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Analogue TV switch-off (NZ 2012?; USA 2009; Finland 2007),complete shift to digital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New forms of delivery eg TV on mobiles, web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other factors have shaped the history and development of television in New Zea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it possible to fund television differently from the methods described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might be other ‘futures’ for telev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dilemmas does broadcasting regulation face in  the near and distant fu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nvented tele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ree hundred is, in fact, a conservative figure since it took nearly a century of research before Milton Berle could show up in your living room in dr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  historian Jeff Kisseloff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Q. Who is Milton Berl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ventors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 T. Farnsworth  (USA) - scanning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ladimir Zworykin (USA) -cathode ray t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ogie Baird (Britain) - mechanical transmission of images over w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TV remote (called “Lazy Bones”) was developed by Zenith Electronics (US) in 1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evision history 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History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tvhandbook.com.History/History_timeline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Television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inventors.about.com/library/inventors/bl_television_timeline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Television in New Zea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corporate.tvnz.co.nz/tvnz_detail/0,22406,111544-247-252,00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NZondemand.co.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209680"/>
            <a:ext cx="763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early 1950s, television networks grew out of radio networks, controlled by large corporations (NBC,CBS,AB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regulation/government control (Federal Communications Commi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content of television was domestically-based enter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purpose and funding of television was commerce (delivering audiences to advertis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vide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ople’s  Century; Picture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itish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was modelled on state-owned radio (BBC), with a strong public service remit (eg the BBC’s  original remi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lighten, elevate and educ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vision was initially funded by fees; a mix developed with the introduction of commercial television (ITV) in 19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tish television developed as a duopoly + Channel 4, Channel 5 + pay-TV added from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regulation of commercial TV + self-regulation of the BBC (Char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he distinctions are blurr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BC is still regarded as a public service broadcaster, funded by a general broadcasting fee (120 pounds annually), to inform, educate and entertain. Nevertheless, it makes substantial profits from programmes it exports (eg $NZ300+ million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letub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and formats it owns and exports (e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ncing With the Sta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ustralian model of tel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6: Public service, state-funded broadcaster (ABC) developed from public radio + two commercial chann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channels developed into Nine Network and Seven Network; Nine Network added in 197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9 Special Broadcasting Service (SBS) set up; 1990 Imparja TV; regional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ellite critical to national channels; digital switch-off 2012; regulation thru AC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 TV : Foxtel, AUSTAR, Op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00:25:14Z</dcterms:created>
  <dc:creator>Geoff Lealand</dc:creator>
  <dc:description/>
  <dc:language>en-US</dc:language>
  <cp:lastModifiedBy>Geoff Lealand</cp:lastModifiedBy>
  <cp:lastPrinted>2008-07-18T01:17:01Z</cp:lastPrinted>
  <dcterms:modified xsi:type="dcterms:W3CDTF">2008-07-18T01:55:51Z</dcterms:modified>
  <cp:revision>19</cp:revision>
  <dc:subject/>
  <dc:title>SMST216-05B Lecture 2 (Week 30)</dc:title>
</cp:coreProperties>
</file>