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8DF-58ED-42B0-A212-51430F48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0E1-754B-4618-BFC2-58DE7F1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FB3-6ABD-4D5C-9691-BADA29E7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75B-FECC-4858-9BC1-C0122340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6BE6-2B25-4AA2-BACF-4E0B497C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AC90-35A7-4A16-BDD8-C4BD3F58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B96-7121-4FA7-8D8B-3A5B4DF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C555-F986-4002-BA7E-A9812B5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5BC-1DE4-4058-A43B-A40ED6F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D4EB-2DAA-4771-85BF-579D428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01B4-3CAB-462A-AD17-EF7E9E1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58B-3741-4E37-985A-B5698FA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ADF-2FA6-4C38-AE40-52E84D4C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B79-87F3-4328-911F-E19A21A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3AE1-4D51-4735-A6E3-5C3C637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555-4912-4E24-B24C-8A27FD7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6D7A-3772-40D6-8375-44888029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453A-0BD7-42A2-93C5-19F85447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F6DC-FF1D-4DA3-ACDA-B686E5ED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E1CE-137F-4669-B4C6-1A1CFD27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7ED2-CA84-4A2E-9B3B-39421FC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012D-8774-4380-8325-264367E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EDC-F762-4B80-AA44-593F72BB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7CA1-CE9C-4D88-8918-47445AF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87BE-FE2B-467A-A69F-4AD44C7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602E-2FDE-484F-A1A4-D536B921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AC34-C010-4F61-920A-BFF6A21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AB31-F69D-4BE4-BB53-C0D22814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B92E-66DB-4438-A62B-D505F017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A7BF-2BE6-4978-B9E4-A335F198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653-3A31-4E8D-8382-112FCC7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BD5-0D30-4974-8B59-477455F0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15A-7D46-47F2-A766-7C6FA83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DBD-DAC8-46CC-B8CB-7DE5BE3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70-E3D9-4A26-96B7-1720F7D7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7B4-DE8E-4159-87D3-F740BC3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6D69-CD2C-46FD-9740-7538E77C994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D40-5321-44CD-AD04-FA0B7B898B5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9054-FDFB-420E-B370-F8DCEB6A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handbook.com.History/History_timeline.htm" TargetMode="External"/><Relationship Id="rId2" Type="http://schemas.openxmlformats.org/officeDocument/2006/relationships/hyperlink" Target="http://www.tvhandbook.com.History/History_timeline.htm" TargetMode="External"/><Relationship Id="rId3" Type="http://schemas.openxmlformats.org/officeDocument/2006/relationships/hyperlink" Target="http://inventors.about.com/library/inventors/bl_television_timeline.htm" TargetMode="External"/><Relationship Id="rId4" Type="http://schemas.openxmlformats.org/officeDocument/2006/relationships/hyperlink" Target="http://inventors.about.com/library/inventors/bl_television_timeline.htm" TargetMode="External"/><Relationship Id="rId5" Type="http://schemas.openxmlformats.org/officeDocument/2006/relationships/hyperlink" Target="http://corporate.tvnz.co.nz/tvnz_detail/0,22406,111544-247-252,00.html" TargetMode="External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MST216-08B Lecture 2 (Week 30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 I: The History of Televi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Short History of Television in New Z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</a:rPr>
              <a:t>Geoff L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Zealand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w out of state-owned radio; Television New Zealand remains state-owned television (currently a Crown-owned comp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beginning, there was a mix of public service broadcasting (fee) and commercial income (TV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0 years of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of privately-owned channels (TV3) in 1988 and pay TV (Sky) in 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3040" y="752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: Television in New Zealand in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in New Zealand, in 2008, remains a mix of public service objectives (a prime responsibility of Television New Zealand), and commercial interests (overseas-owned channels + pay TV ).  There are structures and processes unique to television in this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-top box, commercial-free digital service (Freeview) began in 2007, screening free-to-air channels, including TVNZ6 and TVNZ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owned-Owned Company (CROC), operating TV ONE and TV2 under the TVNZ Charter. The transmission service BCL is now operated separately, as Ko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primarily through advertising revenue (90%) + Charter funding from the Govt ($16m in 2005) +  programme subsidies through NZOA and Te Mangai Pa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% share of the FTA audience (2007). Dominates ratings (esp TV 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s dividend on profits to Go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3 and C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shareholder formerly CanWest Global Communications (Canada). 90% takeover by Australian private equity firm (Ironbridge Capital) in 2007. Financed through advertising + NZOA programme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TV3 (FTA channel, with younger demographic) + C4 (music video + programming strands). 19% FTA audience share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CanWest also owns a large share of the NZ radio market (RadioWorks, Radio Pacific, More F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ly owned and operated by Prime Networks Australia; purchased by Sky Network Television in 2005. Financed through advertising revenue. Up to 5% FTA audience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 uses Prime for FTA replays of the significant sporting fixtures it has exclusive rights to (rug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ori Televis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-funded national channel,with a brief to preserve and prom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Launched June 2004, and attracts between 50-70% non-Maori viewers, broadcasting up to 8 hours dai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is 90% lo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channel Te reo launched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y Network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service, providing 80+ channels of terrestrial + satellite digital service + radio channels.. 78% owned by Independent News Ltd (INL)* + 8% Commercial Bank of Australia. In 46% of NZ h/hs; subscribers=720,919, Dec 2007 ), After years on continuous losses, Sky made $35m profit in 2004. Currently 5% of income comes from advertising. 23%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Z television audience (2006); 19% share of 20-54 year olds (April 2008) Introduced PVR (personal video recorders) as MySky in  2006; currently adding HD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44% owned by Rupert Murdoch’s News Corpo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levi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elevision eg NowTV, CTV (Christchurch), Nelson (Mainland TV). Channel 9 (Duned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television eg Triangle (Auckland and Welling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2005, some funding available from New Zealand On Air to regional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Zealand On 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der Ministry of Culture and Heri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. 1989, with responsibilities for social and cultural objectives of broadcasting (radio + TV). Directly funded from Treasury ($127.5m in 2008/9; 64% allocated to funding TV programmes). Contestable funding, concentrated on ‘threatened’ or ‘non-commercial’genres (drama/comedy, children’s, documentaries).  Does not fund news/current affairs nor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ing slot required to receive NZOA fu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 Mangai Pa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Te Puni Kokiri). Promotes Maori language and culture through providing funds for programming--primarily to Maori Television Service (more than $20m annually, with 50%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wo major strands of   television history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 history, concentrating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ntors and the development of television technology 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levision: Window to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history, concentrating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broadcasting institutions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a Brigg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First 50 Years of the B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general histories of television in NZ: Robert Boyd-Bell (1985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 Zealand Television: The First 25 Ye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ick Day (2000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oice &amp; Vision: A History of Broadcasting in New Zealan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so Lealand &amp; Martin (2001) Chapter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77280" y="674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adcast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Ministry of Culture and Heritage) . Est. 1989. Govt-funded, complaints-based content regulator. Regulates radio and TV, through codes of broadcasting practice, developed in conjunction with industry. Deals with around 200 formal complaints annually (average upheld=21%). Conducts audience research (as does NZO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rtis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dustry-based, self-regulatory body responding to advertising complaints. Incorporates Advertising Standards Complaints Board and Advertising Standards Appeals Board (both with public memb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conclude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avenues fo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ding tele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(buying airtime, sponsorship, naming righ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s or taxes (eg the former Public Broadcasting 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government funding eg MTS and NZOA in NZ; ABC in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ing mixes (eg TV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--pay service, channel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ner in which television is funded determines what kind of television eventu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American networks NBC/ABC/CBS/Fox; Channels 7/9/10 in Australia; TV3/C4/Prime in 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ervice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BBC, ABC (Australia), NHK (Japan), YLE (Fin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 T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Foxtel (Australia), Sky (UK), Sky (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xed systems (public funding + advertising)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effect channels are settling into thre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mprises the major free-to-air national channels (TV One, TV2, TV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pe 2 consists of the smaller broad-service channels with mainly national reach (Prime, Maori Televi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 3 comprises channels broadcasting regionally and/or to special interest audiences, whether on UHF, Freeview or pay TV platforms (such as the 16 regional channels, C4, TVNZ6, TVNZ7, Juice TV, Stratos, Parliament TV, Alt T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ky TV subscription services collectively of course is a major competitor to the Type 1 channels in particular, but its individual channels mostly fall into Types 2 and 3, with the possible exception of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Zealand On Ai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tement of Intent 2008-1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ington: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ture of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Video Rec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VR) aka Digital Personal Video Recorder (DVR) or My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VR makes timeshifting much easier, can ‘pause’ live TV, provide instant replay, and 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lity to skip advertis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nalogue TV switch-off (NZ 2012?; USA 2009; Finland 2007),complete shift to digit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New forms of delivery eg TV on mobiles, web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other factors have shaped the history and development of television in New Zea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it possible to fund television differently from the methods described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might be other ‘futures’ for telev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lemmas does broadcasting regulation face in  the near and distant fu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nvented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ree hundred is, in fact, a conservative figure since it took nearly a century of research before Milton Berle could show up in your living room in dr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  historian Jeff Kisselof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. Who is Milton Berl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ventors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 T. Farnsworth  (USA) - scanning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dimir Zworykin (USA) -cathode ray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ogie Baird (Britain) - mechanical transmission of images over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TV remote (called “Lazy Bones”) was developed by Zenith Electronics (US) in 1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history 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History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tvhandbook.com.History/History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ventors.about.com/library/inventors/bl_television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in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corporate.tvnz.co.nz/tvnz_detail/0,22406,111544-247-252,00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NZondemand.co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2096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early 1950s, television networks grew out of radio networks, controlled by large corporations (NBC,CBS,A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regulation/government control (Federal Communications Commi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content of television was domestically-base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purpose and funding of television was commerce (delivering audiences to adverti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ople’s  Century; Picture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itish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modelled on state-owned radio (BBC), with a strong public service remit (eg the BBC’s  original remi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lighten, elevate and edu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initially funded by fees; a mix developed with the introduction of commercial television (ITV) in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television developed as a duopoly + Channel 4, Channel 5 + pay-TV added from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regulation of commercial TV + self-regulation of the BBC (Char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he distinctions are blurr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BC is still regarded as a public service broadcaster, funded by a general broadcasting fee (120 pounds annually), to inform, educate and entertain. Nevertheless, it makes substantial profits from programmes it exports (eg $NZ300+ mill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letub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formats it owns and exports (e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ncing With the St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ustrali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6: Public service, state-funded broadcaster (ABC) developed from public radio + two commercial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channels developed into Nine Network and Seven Network; Nine Network added in 19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9 Special Broadcasting Service (SBS) set up; 1990 Imparja TV; region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ellite critical to national channels; digital switch-off 2012; regulation thru AC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: Foxtel, AUSTAR, Op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25:14Z</dcterms:created>
  <dc:creator>Geoff Lealand</dc:creator>
  <dc:description/>
  <dc:language>en-US</dc:language>
  <cp:lastModifiedBy>Geoff Lealand</cp:lastModifiedBy>
  <cp:lastPrinted>2008-07-18T01:17:01Z</cp:lastPrinted>
  <dcterms:modified xsi:type="dcterms:W3CDTF">2008-07-18T01:55:51Z</dcterms:modified>
  <cp:revision>19</cp:revision>
  <dc:subject/>
  <dc:title>SMST216-05B Lecture 2 (Week 30)</dc:title>
</cp:coreProperties>
</file>