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884-7251-421F-9EC9-80EA733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920-236B-4DC0-906B-5F5A841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572-78BB-4E97-989C-32BC92A5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404-4DCE-48D1-8B44-BD432CD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F29A-0458-47DF-9888-B9A9565F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0C1-A9ED-4B77-BA42-7B5B744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6665-CAA7-41EA-922B-04513BE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3F70-E571-4A0B-91CF-9FD8E84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69E-E44E-4990-9BC3-AC4DDC1A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71FA-45F9-4E64-AC7C-A80E6E67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4796-82FD-4CFC-A39E-35E517D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58C-90AA-4DCA-ACC7-6309467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38F5-9A49-42D0-A90A-DEC5968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8A3-44E1-4D01-A75C-DD17734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97F2-2516-4100-9748-DEE0A24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C3B7-4D4E-4821-93D5-0DA36BA7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E63-B889-4C62-BC84-BCCF03D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519A-F194-4C95-BF23-D736606B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C214-56E5-4A8C-A467-A3F5798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C909-3B17-4D59-A515-B371B6A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9B9C-F4A2-49E4-9586-8235AE2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9B30-3F9E-45DA-B12B-B0DADC36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516-6826-45D0-939E-7C229C7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EFAC-751A-4D64-A212-474DDFA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19C0-066D-4D76-97F0-E1D581A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3CED-7534-4B53-9B53-F356A98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94A8-891C-4EB9-AC48-B16521F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26DA-3E64-4F73-BD53-77F80C92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AE06-2C78-44F7-A5B6-3D02F80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FF8A-E8D8-46EF-BB46-D0467A6A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CEF-CBE0-4AD1-BB39-7A40C7AF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680-8D6D-4417-A9E0-2F2D8D9A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69F-1F41-4A99-A6F1-DDC84CD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412-7E6C-4117-B3E2-10CB684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F00-D480-4702-B381-2BDDB72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E36-8CA7-4C10-A069-941A119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5365-301F-495B-9E9E-689A5927362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43FE-E1D8-4504-8EEB-56CFDDCC10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4E45-6C21-4027-B880-71B7CC55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handbook.com.History/History_timeline.htm" TargetMode="External"/><Relationship Id="rId2" Type="http://schemas.openxmlformats.org/officeDocument/2006/relationships/hyperlink" Target="http://www.tvhandbook.com.History/History_timeline.htm" TargetMode="External"/><Relationship Id="rId3" Type="http://schemas.openxmlformats.org/officeDocument/2006/relationships/hyperlink" Target="http://inventors.about.com/library/inventors/bl_television_timeline.htm" TargetMode="External"/><Relationship Id="rId4" Type="http://schemas.openxmlformats.org/officeDocument/2006/relationships/hyperlink" Target="http://inventors.about.com/library/inventors/bl_television_timeline.htm" TargetMode="External"/><Relationship Id="rId5" Type="http://schemas.openxmlformats.org/officeDocument/2006/relationships/hyperlink" Target="http://corporate.tvnz.co.nz/tvnz_detail/0,22406,111544-247-252,00.html" TargetMode="External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MST216-08B Lecture 2 (Week 30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 I: The History of Televi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Short History of Television in New Z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</a:rPr>
              <a:t>Geoff L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Zealand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w out of state-owned radio; Television New Zealand remains state-owned television (currently a Crown-owned comp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beginning, there was a mix of public service broadcasting (fee) and commercial income (TV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0 years of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of privately-owned channels (TV3) in 1988 and pay TV (Sky) in 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3040" y="752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: Television in New Zealand in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in New Zealand, in 2008, remains a mix of public service objectives (a prime responsibility of Television New Zealand), and commercial interests (overseas-owned channels + pay TV ).  There are structures and processes unique to television in this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-top box, commercial-free digital service (Freeview) began in 2007, screening free-to-air channels, including TVNZ6 and TVNZ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owned-Owned Company (CROC), operating TV ONE and TV2 under the TVNZ Charter. The transmission service BCL is now operated separately, as Ko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primarily through advertising revenue (90%) + Charter funding from the Govt ($16m in 2005) +  programme subsidies through NZOA and Te Mangai Pa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% share of the FTA audience (2007). Dominates ratings (esp TV 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s dividend on profits to Go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3 and C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shareholder formerly CanWest Global Communications (Canada). 90% takeover by Australian private equity firm (Ironbridge Capital) in 2007. Financed through advertising + NZOA programme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TV3 (FTA channel, with younger demographic) + C4 (music video + programming strands). 19% FTA audience share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CanWest also owns a large share of the NZ radio market (RadioWorks, Radio Pacific, More F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ly owned and operated by Prime Networks Australia; purchased by Sky Network Television in 2005. Financed through advertising revenue. Up to 5% FTA audience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 uses Prime for FTA replays of the significant sporting fixtures it has exclusive rights to (rug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ori Televis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-funded national channel,with a brief to preserve and prom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Launched June 2004, and attracts between 50-70% non-Maori viewers, broadcasting up to 8 hours dai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is 90% lo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channel Te reo launched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y Network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service, providing 80+ channels of terrestrial + satellite digital service + radio channels.. 78% owned by Independent News Ltd (INL)* + 8% Commercial Bank of Australia. In 46% of NZ h/hs; subscribers=720,919, Dec 2007 ), After years on continuous losses, Sky made $35m profit in 2004. Currently 5% of income comes from advertising. 23%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Z television audience (2006); 19% share of 20-54 year olds (April 2008) Introduced PVR (personal video recorders) as MySky in  2006; currently adding HD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44% owned by Rupert Murdoch’s News Corpo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levi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elevision eg NowTV, CTV (Christchurch), Nelson (Mainland TV). Channel 9 (Duned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television eg Triangle (Auckland and Welling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2005, some funding available from New Zealand On Air to regional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Zealand On 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der Ministry of Culture and Heri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. 1989, with responsibilities for social and cultural objectives of broadcasting (radio + TV). Directly funded from Treasury ($127.5m in 2008/9; 64% allocated to funding TV programmes). Contestable funding, concentrated on ‘threatened’ or ‘non-commercial’genres (drama/comedy, children’s, documentaries).  Does not fund news/current affairs nor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ing slot required to receive NZOA fu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 Mangai Pa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Te Puni Kokiri). Promotes Maori language and culture through providing funds for programming--primarily to Maori Television Service (more than $20m annually, with 50%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wo major strands of   television history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 history, concentrating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ntors and the development of television technology 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levision: Window to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history, concentrating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broadcasting institutions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a Brigg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First 50 Years of the B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general histories of television in NZ: Robert Boyd-Bell (1985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 Zealand Television: The First 25 Ye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ick Day (2000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oice &amp; Vision: A History of Broadcasting in New Zealan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so Lealand &amp; Martin (2001) Chapter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77280" y="674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adcast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Ministry of Culture and Heritage) . Est. 1989. Govt-funded, complaints-based content regulator. Regulates radio and TV, through codes of broadcasting practice, developed in conjunction with industry. Deals with around 200 formal complaints annually (average upheld=21%). Conducts audience research (as does NZO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rtis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dustry-based, self-regulatory body responding to advertising complaints. Incorporates Advertising Standards Complaints Board and Advertising Standards Appeals Board (both with public memb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conclude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avenues fo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ding tele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(buying airtime, sponsorship, naming righ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s or taxes (eg the former Public Broadcasting 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government funding eg MTS and NZOA in NZ; ABC in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ing mixes (eg TV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--pay service, channel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ner in which television is funded determines what kind of television eventu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American networks NBC/ABC/CBS/Fox; Channels 7/9/10 in Australia; TV3/C4/Prime in 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ervice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BBC, ABC (Australia), NHK (Japan), YLE (Fin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 T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Foxtel (Australia), Sky (UK), Sky (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xed systems (public funding + advertising)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effect channels are settling into thre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mprises the major free-to-air national channels (TV One, TV2, TV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pe 2 consists of the smaller broad-service channels with mainly national reach (Prime, Maori Televi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 3 comprises channels broadcasting regionally and/or to special interest audiences, whether on UHF, Freeview or pay TV platforms (such as the 16 regional channels, C4, TVNZ6, TVNZ7, Juice TV, Stratos, Parliament TV, Alt T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ky TV subscription services collectively of course is a major competitor to the Type 1 channels in particular, but its individual channels mostly fall into Types 2 and 3, with the possible exception of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Zealand On Ai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tement of Intent 2008-1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ington: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ture of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Video Rec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VR) aka Digital Personal Video Recorder (DVR) or My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VR makes timeshifting much easier, can ‘pause’ live TV, provide instant replay, and 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lity to skip advertis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nalogue TV switch-off (NZ 2012?; USA 2009; Finland 2007),complete shift to digit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New forms of delivery eg TV on mobiles, web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other factors have shaped the history and development of television in New Zea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it possible to fund television differently from the methods described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might be other ‘futures’ for telev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lemmas does broadcasting regulation face in  the near and distant fu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nvented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ree hundred is, in fact, a conservative figure since it took nearly a century of research before Milton Berle could show up in your living room in dr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  historian Jeff Kisselof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. Who is Milton Berl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ventors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 T. Farnsworth  (USA) - scanning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dimir Zworykin (USA) -cathode ray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ogie Baird (Britain) - mechanical transmission of images over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TV remote (called “Lazy Bones”) was developed by Zenith Electronics (US) in 1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history 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History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tvhandbook.com.History/History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ventors.about.com/library/inventors/bl_television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in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corporate.tvnz.co.nz/tvnz_detail/0,22406,111544-247-252,00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NZondemand.co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2096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early 1950s, television networks grew out of radio networks, controlled by large corporations (NBC,CBS,A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regulation/government control (Federal Communications Commi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content of television was domestically-base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purpose and funding of television was commerce (delivering audiences to adverti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ople’s  Century; Picture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itish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modelled on state-owned radio (BBC), with a strong public service remit (eg the BBC’s  original remi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lighten, elevate and edu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initially funded by fees; a mix developed with the introduction of commercial television (ITV) in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television developed as a duopoly + Channel 4, Channel 5 + pay-TV added from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regulation of commercial TV + self-regulation of the BBC (Char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he distinctions are blurr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BC is still regarded as a public service broadcaster, funded by a general broadcasting fee (120 pounds annually), to inform, educate and entertain. Nevertheless, it makes substantial profits from programmes it exports (eg $NZ300+ mill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letub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formats it owns and exports (e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ncing With the St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ustrali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6: Public service, state-funded broadcaster (ABC) developed from public radio + two commercial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channels developed into Nine Network and Seven Network; Nine Network added in 19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9 Special Broadcasting Service (SBS) set up; 1990 Imparja TV; region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ellite critical to national channels; digital switch-off 2012; regulation thru AC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: Foxtel, AUSTAR, Op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25:14Z</dcterms:created>
  <dc:creator>Geoff Lealand</dc:creator>
  <dc:description/>
  <dc:language>en-US</dc:language>
  <cp:lastModifiedBy>Geoff Lealand</cp:lastModifiedBy>
  <cp:lastPrinted>2008-07-18T01:17:01Z</cp:lastPrinted>
  <dcterms:modified xsi:type="dcterms:W3CDTF">2008-07-18T01:55:51Z</dcterms:modified>
  <cp:revision>19</cp:revision>
  <dc:subject/>
  <dc:title>SMST216-05B Lecture 2 (Week 30)</dc:title>
</cp:coreProperties>
</file>